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D91-2419-4D0F-8591-BC972AA4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641-E4EE-4A03-A5A3-DA546BD1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EEE-CC3B-4A23-9429-9DE9186D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741-7ED0-4AA2-8FAE-CB38F519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B1DC-BE4D-4B77-A22F-1943A605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89FF-4282-4F8C-B3DB-43015B20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03DC-8555-46D0-BECF-8E1EAFF1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4B30-8BD2-4508-8287-B73CC930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2EE7-8DFE-462E-974E-D669E154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1742-1673-41A0-B3EC-7EA2C9D5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E940-6756-474F-A3B2-06476A6F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12B-863E-42C9-910D-BB620CA5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912F-A466-4AC7-BF3E-34ED283D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B892-FF82-4E93-8213-78D031F6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0E30-4E44-4F26-B9EC-511CD7DB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6273-DB10-415C-A045-1CEA2F2A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C146-6E59-482B-AD9D-72AA6D05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C2864-944B-4F8B-A712-96D71111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4CBD9-6A5B-4930-9DC5-4773F370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B1129-A02C-4F76-A721-E5BEFB68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AB8AC-98E3-4019-95CE-3F6072E8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44E68-A307-4488-A790-84AB25C8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016-B100-4345-B32D-9803D99E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1DB19-30D5-45F5-8790-46C99DB4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E9449-C0BF-4486-A5BA-8602F72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7981D-45E2-40DC-B2B6-8C202419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520EA-D564-421B-AC2A-221E7D6B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9FCD3-5DAA-46B0-9864-32342AC1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9F004-701A-46C6-9C99-E1EE2C8C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BEC83-7422-4B1E-A6F5-D8FAE660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AC93A-E16D-4B32-90B1-BAE2BB0C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67398-04DB-4038-A7CF-A3AD9A53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24941-EE55-4951-9D94-05C0D700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110-5630-4EBE-8DC7-C1D5027C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D3B35-06EC-48C9-9153-F7E4E776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19198-08EA-44CE-A7C9-B160B818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A3D61-7ABA-4ED0-9478-96B7398A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8EAD2-9BA3-4019-9379-29EDF292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193BD-48A0-41CD-A96C-FBC11AFC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EC78-65DA-431F-ADEB-D1DCE22B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0534-FC68-4453-AB3F-3C3AACEB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05401-D84D-4D31-AF40-D6B6BC84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43717-1987-4288-B3D3-C6C172A1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69A-9305-4B9D-A431-B13BB4C7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C52-E801-423E-8868-7CAFC042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9BD-316B-4ADC-B83B-8C155F63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1B1-F58C-4A02-B70C-24CA469D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B3F-097C-4D14-88A2-5BCB75D0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3E00-2817-4409-9BF5-710FB02C4C0F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8F53-9584-4FAB-8EC8-AFBE6A783A96}" type="slidenum">
              <a:rPr b="0" lang="cs-CZ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4131-8778-463D-8CB4-201287FF7354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5FA7-DC82-4C86-AA8C-5F7F83373C8E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24242"/>
                </a:solidFill>
                <a:latin typeface="Century Gothic"/>
              </a:rPr>
              <a:t>Tvorba ŠVP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0A29-9A97-4E4D-84F1-F213550F259B}" type="slidenum">
              <a:rPr b="0" lang="cs-CZ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58600" y="269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ŠKOLNÍ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= všechny hodnotící procesy a projevy, které bezprostředně ovlivňují školní výuku nebo o ní vypovídají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Školní hodnocení :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motivuj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informuj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ovlivňuje kvalitu výu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 je jedním z nejdůležitějších pedagogických </a:t>
            </a:r>
            <a:r>
              <a:rPr b="0" i="1" lang="cs-CZ" sz="2200" spc="-1" strike="noStrike">
                <a:solidFill>
                  <a:srgbClr val="3e3d2d"/>
                </a:solidFill>
                <a:latin typeface="Century Gothic"/>
              </a:rPr>
              <a:t>nástrojů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, jak dosahovat </a:t>
            </a:r>
            <a:r>
              <a:rPr b="0" i="1" lang="cs-CZ" sz="2200" spc="-1" strike="noStrike">
                <a:solidFill>
                  <a:srgbClr val="3e3d2d"/>
                </a:solidFill>
                <a:latin typeface="Century Gothic"/>
              </a:rPr>
              <a:t>cílů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výuk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* pozn. Pozor na známkování jako jedinou motivaci ve výuc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C27A-FC00-4CF5-941F-8C412F720324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ÚČASTNÍCI ŠKOLNÍHO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24000" y="1483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UČITEL HODNOTÍ:  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ŽÁK HODNOTÍ:   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RODIČE HODNOTÍ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     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polužáky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a (?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  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ám sebe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ám sebe                  učitele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ŘEDITEL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OVĚŘENÍ MIMOŠKOLNÍ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HODNOTÍ (?):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RACOVNÍCI HODNOTÍ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školní dokumentac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0C88-2DE1-47A2-BABA-4E4340BC804B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917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41360"/>
                <a:tab algn="l" pos="1706400"/>
                <a:tab algn="l" pos="367344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ŘÍKLADY MEZNÍCH</a:t>
            </a:r>
            <a:br>
              <a:rPr sz="2900"/>
            </a:br>
            <a:r>
              <a:rPr b="1" lang="cs-CZ" sz="29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KONCEPCÍ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ŠKOLNÍCH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VZDĚLÁVÁNÍ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7200" y="2071800"/>
          <a:ext cx="8218440" cy="3733560"/>
        </p:xfrm>
        <a:graphic>
          <a:graphicData uri="http://schemas.openxmlformats.org/drawingml/2006/table">
            <a:tbl>
              <a:tblPr/>
              <a:tblGrid>
                <a:gridCol w="3772080"/>
                <a:gridCol w="338040"/>
                <a:gridCol w="336600"/>
                <a:gridCol w="3771720"/>
              </a:tblGrid>
              <a:tr h="186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ávání poznatků učitelem, tj. zprostředkovatele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konci jednotlivých etap výuky, porovnávání výkonu žáků vzhledem k normě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ování žákova učení – důraz na sebevzdělání a svéprávnost žáka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běžné zpětnovazebné rozvíjení cíleného získávání poznatků a přispívání k sebereflexi žáků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662F-B0B5-470A-8BDC-B80E31B4B668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HODNOCENÍ JAKO CÍL VÝUKY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647720"/>
            <a:ext cx="67773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Hodnocení je nejen prostředkem, ale i cílem výuky. Tím by měl být nácvik sebehodnocení </a:t>
            </a:r>
            <a:br>
              <a:rPr sz="2000"/>
            </a:b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a hodnocení žáka žákem. (sociální a personální KK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Hodnotící kritéria by mohla být sestavována se žáky a měla by odpovídat jejich schopnostem (měnit se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Cílem je naučit žáka zacházet s chybami jako s příležitostí k poznání a poučení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A17A-9C8C-48DC-81CA-89A727DE6E01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867564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19280" y="1701720"/>
            <a:ext cx="8748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rovnávání dvou faktorů (něco s něčím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rovnávat můžeme buď s jiným srovnatelným objektem nebo s nějakým ideálním vzorem či normou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: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- subjektiv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- objektivní (v sociologii?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0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076D-81E0-4B1A-BDAA-D5E7C55673B7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48880" y="259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FUNKCE 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FUNKCE</a:t>
            </a: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SOUVISLOST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motivační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mocionální (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citovou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) stránkou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oznávac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rozumovou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stránkou hodnoce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konativn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   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lidskou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vůl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k čin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3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D7DD-98AA-4025-B4BA-F5E798C8D1EB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60400" y="2426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OMPETENCE, KRITÉRIA, STANDARDY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1700280"/>
            <a:ext cx="6777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riterium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je měřítkem žákovy kompetence nebo složky kompetenc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ompetence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je míra připravenosti jedince realizovat určitou činnost nebo dostát určitému společenskému, kulturnímu, pracovnímu požadavku. Kompetence je vymezována jako výchovný ideál , jako hodnota, kterou je vhodné ve výuce rozvíjet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Kritéria školního hodnocení i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vzdělávací standardy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slouží shodně jako hodnotící měřítka. V pojmu standard je skryt význam závaznost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e3d2d"/>
                </a:solidFill>
                <a:latin typeface="Century Gothic"/>
              </a:rPr>
              <a:t>Obvykle se ve státní správě standardy chápou v normativní podobě. (Naproti tomu je kritérium může být jakékoliv měřítko.)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A33F-A851-4D23-AAEB-70FC13E3ACEC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28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RITÉRIUM</a:t>
            </a:r>
            <a:r>
              <a:rPr b="1" lang="cs-CZ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HODNOCENÍ (I)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34760" y="1599840"/>
            <a:ext cx="7437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název pro vlastnost, která se vyskytuje u více rozmanitých objektů, ale případ od případu nabývá různé míry hodnoty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bipolární (vlastnost je nebo není) a nebo se může kvantifikovat (obvykle na nějaké škále)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Kladný pól hodnotové škály je cílem našeho jednání, naopak záporný pól je výzva ke změně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e3d2d"/>
                </a:solidFill>
                <a:latin typeface="Century Gothic"/>
              </a:rPr>
              <a:t>(Pozor na příliš obecná kritéria – např. chuť polévky – „když mi tzv. nechutná“, tak nevím co je toho příčinou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9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F4C5-E4CA-44C6-A9B1-1E1A8BC7E5D4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356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RITÉRIUM HODNOCENÍ (II)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6920" y="1700280"/>
            <a:ext cx="67773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běr kritérií je jedním z klíčových problémů hodnocení. Kritéria jsou měřítka žákových způsobilostí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Každý stupeň hodnotící škály má být nějak účelně vymezen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Kritérium je na rozdíl od standardu jakékoliv hodnotící měřítko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zdělávací standard je také kritérium, ale je v něm navíc skryt význam závaznosti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90E6-A314-4DB5-93E9-9CF655DC042E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8600" y="269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EVALUACE A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6560" y="1700280"/>
            <a:ext cx="6993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dle Tondla:  „Evaluace představuje koncepční nebo strategickou složku školního hodnocení, která se vztahuje k obecným cílům vzdělávání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Tomu odpovídá i obecnější vymezení evaluace jako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zpětnovazebního hodnocení“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valuace nejen informuje o stavu výuky vnější posuzovatele, ale jako každé hodnocení má formativní dopad, tj. zpětně působí na způsoby jednání a myšlení učitelů a dalších pedagogických pracovníků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tit se může např. školský systém, škola, třída, žák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CA4A-F0F4-499B-B848-B4A87D641540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53560" y="250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EDAGOGICKÉ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6920" y="162864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ystematický proces, který vede k určení kvalit a výkonů vykazovaných žákem nebo skupinou žáků či vzdělávacím programem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Je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systematickou,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tj. cílevědomě organizovanou činností doprovázenou jeho záměrnými opravami, revizemi a korekcemi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ypovídá o skutečných cílech, ke kterým učitel směřuje, a to dokonce i tehdy, když si své cíle neuvědomuj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Mělo by být vždy validní (platné, správné) a reliabilní (spolehlivé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F292-8D4C-4690-807F-26B8B4C3ABAF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58600" y="22356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EDAGOGICKÉ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4360" y="1989000"/>
            <a:ext cx="7920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cílené – v souladu s předem stanovenými cíl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ystematické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fektivní – co nejvíce informací o žácích a pro žá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informativní – co nejvíce srozumitelných informací pro žáky, učitele i rodič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1553-F999-49DF-AC5D-9A46875B6FAB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3:18:01Z</dcterms:created>
  <dc:creator>PEDF</dc:creator>
  <dc:description/>
  <dc:language>en-US</dc:language>
  <cp:lastModifiedBy>panKlamperna</cp:lastModifiedBy>
  <dcterms:modified xsi:type="dcterms:W3CDTF">2012-12-29T18:35:48Z</dcterms:modified>
  <cp:revision>35</cp:revision>
  <dc:subject/>
  <dc:title>K HODNOCENÍ</dc:title>
</cp:coreProperties>
</file>