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0F0-DD59-4C19-9E5C-2BE7DB68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A9F-4578-4D00-89E7-7D0F985D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852-E24F-423F-97C7-1B2CCCE8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AF2-D686-4C1F-B9E6-091AEEEB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A8E8-99D8-4D15-A57A-50F3FFFA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27DB-3D97-4773-A50F-4F74F95E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1DE0-BB44-463A-BC28-2F445230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AA85-305E-4FAE-AF76-6A997E5E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1B0D-D326-46B9-889C-34F38AFA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D92F-D37E-4A92-97CD-E688E002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7B76-3F63-428F-9B92-137F6E08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D5B7-D1DB-48BF-8E7D-9380DC92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658D-4039-4B0C-BFB7-AABF3C0D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3945-BFB5-4763-8E46-9927F33A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4799-27C4-41C5-B00A-02EDEA98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1DCC-349C-4374-A267-B343408E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0765-74BE-4A66-A3A5-839FA500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DD8E7-0A93-4AF2-885D-1ACBE25F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2EB88-00A1-4B21-8F65-0D6B0CB1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CF613-3542-44D5-AF61-2F5B3CAE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FBC8F-AAFC-4476-8F6F-592B70B8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9B143-2064-499F-862F-A2B18F4E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04E-3D0B-4E60-99DA-1BFD7195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7D6AB-D0F6-4B90-80EB-FB872720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5F42C-5617-4884-B97A-2D58E176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F4C7C-108F-4754-856C-763031F0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A3220-32B7-4B23-A695-E1E6BAC0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9D551-4532-4F3F-BDC8-4DFBF3F7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195E1-2B73-4054-BB21-0667B9E4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456D1-CA10-4572-B15A-B10BF9AB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B8014-4662-465B-BC5D-6CCCE812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34E54-0104-443F-A81C-90097E0A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ECD57-2EE5-4FB3-BA88-1C7D9DBA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100-136A-4EDC-99B3-20DDB9ED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B340A-71CA-4D1B-A8E2-B01C7E26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1EAD2-5B2D-46BF-9230-03A17B4B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43C7D-3D35-45F6-B878-B79DBB3F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7F966-9872-48E5-A006-A3985FB6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A1CC7-E3D9-43CB-88E1-F3CB2225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D1BE1-BD8C-4263-8B72-C7F38742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1ED6D-B751-4BA0-9059-DAC7BC95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4CDA9-8595-475C-AC7F-24B73F86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6C61F-5709-4736-BFDE-803776C6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708-3B45-46B6-80F9-2108EDE7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E7A-EAB5-441C-AC4A-1ACDE3F4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46E-2F24-4BBF-80BF-21983842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5FA-AA54-4EA0-9E63-FAB29A0F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FBA4-5B71-43A1-86A4-474DF204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C3FA-129A-4ECC-ABE1-1EAF2DDCC965}" type="slidenum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57B9-221E-4306-8F6C-2A72E7C1DE2A}" type="slidenum">
              <a:rPr b="0" lang="cs-CZ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039D-5B00-4964-BCB7-5ECD6A730F01}" type="slidenum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D29E-88A7-43AC-A144-EE5B1457A972}" type="slidenum">
              <a:rPr b="0" lang="cs-CZ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4c600"/>
                </a:solidFill>
                <a:latin typeface="Century Gothic"/>
              </a:rPr>
              <a:t>HODNOCENÍ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24242"/>
                </a:solidFill>
                <a:latin typeface="Century Gothic"/>
              </a:rPr>
              <a:t>Tvorba ŠVP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3A50-4F29-41D4-BA33-07083F2AAA7D}" type="slidenum">
              <a:rPr b="0" lang="cs-CZ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58600" y="26964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ŠKOLNÍ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= všechny hodnotící procesy a projevy, které bezprostředně ovlivňují školní výuku nebo o ní vypovídají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Školní hodnocení :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motivuj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informuj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ovlivňuje kvalitu výuk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cení je jedním z nejdůležitějších pedagogických </a:t>
            </a:r>
            <a:r>
              <a:rPr b="0" i="1" lang="cs-CZ" sz="2200" spc="-1" strike="noStrike">
                <a:solidFill>
                  <a:srgbClr val="3e3d2d"/>
                </a:solidFill>
                <a:latin typeface="Century Gothic"/>
              </a:rPr>
              <a:t>nástrojů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, jak dosahovat </a:t>
            </a:r>
            <a:r>
              <a:rPr b="0" i="1" lang="cs-CZ" sz="2200" spc="-1" strike="noStrike">
                <a:solidFill>
                  <a:srgbClr val="3e3d2d"/>
                </a:solidFill>
                <a:latin typeface="Century Gothic"/>
              </a:rPr>
              <a:t>cílů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výuky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* pozn. Pozor na známkování jako jedinou motivaci ve výuce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4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4C10-37A4-47F4-9EF4-AD7D73621B28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ÚČASTNÍCI ŠKOLNÍHO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24000" y="1483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UČITEL HODNOTÍ:  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ŽÁK HODNOTÍ:   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RODIČE HODNOTÍ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y       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polužáky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a (?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     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  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ám sebe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ám sebe                  učitele            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učitel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ŘEDITEL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POVĚŘENÍ MIMOŠKOLNÍ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HODNOTÍ (?):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PRACOVNÍCI HODNOTÍ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y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žák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uku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učitele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učitel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95740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školní dokumentac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D2D6-B353-48AE-A98D-841B3551A444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917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41360"/>
                <a:tab algn="l" pos="1706400"/>
                <a:tab algn="l" pos="367344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PŘÍKLADY MEZNÍCH</a:t>
            </a:r>
            <a:br>
              <a:rPr sz="2900"/>
            </a:br>
            <a:r>
              <a:rPr b="1" lang="cs-CZ" sz="29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KONCEPCÍ 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ŠKOLNÍCH 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VZDĚLÁVÁNÍ 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	</a:t>
            </a:r>
            <a:r>
              <a:rPr b="1" lang="cs-CZ" sz="2500" spc="-1" strike="noStrike">
                <a:solidFill>
                  <a:srgbClr val="94c600"/>
                </a:solidFill>
                <a:latin typeface="Century Gothic"/>
              </a:rPr>
              <a:t>HODNOCENÍ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57200" y="2071800"/>
          <a:ext cx="8218440" cy="3733560"/>
        </p:xfrm>
        <a:graphic>
          <a:graphicData uri="http://schemas.openxmlformats.org/drawingml/2006/table">
            <a:tbl>
              <a:tblPr/>
              <a:tblGrid>
                <a:gridCol w="3772080"/>
                <a:gridCol w="338040"/>
                <a:gridCol w="336600"/>
                <a:gridCol w="3771720"/>
              </a:tblGrid>
              <a:tr h="186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ávání poznatků učitelem, tj. zprostředkovatele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konci jednotlivých etap výuky, porovnávání výkonu žáků vzhledem k normě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ování žákova učení – důraz na sebevzdělání a svéprávnost žáka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běžné zpětnovazebné rozvíjení cíleného získávání poznatků a přispívání k sebereflexi žáků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43FE-AD47-47C2-AD2E-0B860B195931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HODNOCENÍ JAKO CÍL VÝUKY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647720"/>
            <a:ext cx="677736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Hodnocení je nejen prostředkem, ale i cílem výuky. Tím by měl být nácvik sebehodnocení </a:t>
            </a:r>
            <a:br>
              <a:rPr sz="2000"/>
            </a:b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a hodnocení žáka žákem. (sociální a personální KK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Hodnotící kritéria by mohla být sestavována se žáky a měla by odpovídat jejich schopnostem (měnit se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Cílem je naučit žáka zacházet s chybami jako s příležitostí k poznání a poučení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6ADF-4106-461B-9CD2-D12608864965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000" y="-387360"/>
            <a:ext cx="867564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4c600"/>
                </a:solidFill>
                <a:latin typeface="Century Gothic"/>
              </a:rPr>
              <a:t>HODNOCENÍ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19280" y="1701720"/>
            <a:ext cx="8748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porovnávání dvou faktorů (něco s něčím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porovnávat můžeme buď s jiným srovnatelným objektem nebo s nějakým ideálním vzorem či normou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cení: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- subjektivní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19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- objektivní (v sociologii?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0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AD2B-4853-4440-B22B-2852203028E3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48880" y="259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FUNKCE 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e3d2d"/>
                </a:solidFill>
                <a:latin typeface="Century Gothic"/>
              </a:rPr>
              <a:t>FUNKCE</a:t>
            </a:r>
            <a:r>
              <a:rPr b="1" lang="cs-CZ" sz="28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800" spc="-1" strike="noStrike">
                <a:solidFill>
                  <a:srgbClr val="3e3d2d"/>
                </a:solidFill>
                <a:latin typeface="Century Gothic"/>
              </a:rPr>
              <a:t>SOUVISLOST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motivační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emocionální (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citovou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) stránkou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cení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poznávací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rozumovou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stránkou hodnocení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tabLst>
                <a:tab algn="l" pos="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konativní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   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lidskou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vůlí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 k činu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3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342D-FD19-454D-8142-3ED6E4CC5A07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60400" y="2426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KOMPETENCE, KRITÉRIA, STANDARDY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1700280"/>
            <a:ext cx="67770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Kriterium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 je měřítkem žákovy kompetence nebo složky kompetence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Kompetence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 je míra připravenosti jedince realizovat určitou činnost nebo dostát určitému společenskému, kulturnímu, pracovnímu požadavku. Kompetence je vymezována jako výchovný ideál , jako hodnota, kterou je vhodné ve výuce rozvíjet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Kritéria školního hodnocení i 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vzdělávací standardy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 slouží shodně jako hodnotící měřítka. V pojmu standard je skryt význam závaznosti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e3d2d"/>
                </a:solidFill>
                <a:latin typeface="Century Gothic"/>
              </a:rPr>
              <a:t>Obvykle se ve státní správě standardy chápou v normativní podobě. (Naproti tomu je kritérium může být jakékoliv měřítko.) 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3ED1-8FA0-416F-AEC7-167DC28992C4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280" y="269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KRITÉRIUM</a:t>
            </a:r>
            <a:r>
              <a:rPr b="1" lang="cs-CZ" sz="4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HODNOCENÍ (I)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34760" y="1599840"/>
            <a:ext cx="7437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název pro vlastnost, která se vyskytuje u více rozmanitých objektů, ale případ od případu nabývá různé míry hodnoty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bipolární (vlastnost je nebo není) a nebo se může kvantifikovat (obvykle na nějaké škále)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e3d2d"/>
                </a:solidFill>
                <a:latin typeface="Century Gothic"/>
              </a:rPr>
              <a:t>Kladný pól hodnotové škály je cílem našeho jednání, naopak záporný pól je výzva ke změně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34272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3e3d2d"/>
                </a:solidFill>
                <a:latin typeface="Century Gothic"/>
              </a:rPr>
              <a:t>(Pozor na příliš obecná kritéria – např. chuť polévky – „když mi tzv. nechutná“, tak nevím co je toho příčinou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9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E10F-BEFC-4278-ACE3-201EAED7AB5D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53560" y="269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KRITÉRIUM HODNOCENÍ (II)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26920" y="1700280"/>
            <a:ext cx="677736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ýběr kritérií je jedním z klíčových problémů hodnocení. Kritéria jsou měřítka žákových způsobilostí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Každý stupeň hodnotící škály má být nějak účelně vymezen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Kritérium je na rozdíl od standardu jakékoliv hodnotící měřítko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zdělávací standard je také kritérium, ale je v něm navíc skryt význam závaznosti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7226-8FC3-42D5-8EED-2F69E68DC6F3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8600" y="26964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EVALUACE A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26560" y="1700280"/>
            <a:ext cx="69930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podle Tondla:  „Evaluace představuje koncepční nebo strategickou složku školního hodnocení, která se vztahuje k obecným cílům vzdělávání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Tomu odpovídá i obecnější vymezení evaluace jako </a:t>
            </a:r>
            <a:r>
              <a:rPr b="1" lang="cs-CZ" sz="2000" spc="-1" strike="noStrike">
                <a:solidFill>
                  <a:srgbClr val="3e3d2d"/>
                </a:solidFill>
                <a:latin typeface="Century Gothic"/>
              </a:rPr>
              <a:t>zpětnovazebního hodnocení“</a:t>
            </a:r>
            <a:r>
              <a:rPr b="0" lang="cs-CZ" sz="20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Evaluace nejen informuje o stavu výuky vnější posuzovatele, ale jako každé hodnocení má formativní dopad, tj. zpětně působí na způsoby jednání a myšlení učitelů a dalších pedagogických pracovníků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Hodnotit se může např. školský systém, škola, třída, žák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CDFB-7435-4FF4-AF62-167EBAA2BE96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53560" y="2505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PEDAGOGICKÉ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26920" y="162864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ystematický proces, který vede k určení kvalit a výkonů vykazovaných žákem nebo skupinou žáků či vzdělávacím programem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Je </a:t>
            </a:r>
            <a:r>
              <a:rPr b="1" lang="cs-CZ" sz="2200" spc="-1" strike="noStrike">
                <a:solidFill>
                  <a:srgbClr val="3e3d2d"/>
                </a:solidFill>
                <a:latin typeface="Century Gothic"/>
              </a:rPr>
              <a:t>systematickou, 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tj. cílevědomě organizovanou činností doprovázenou jeho záměrnými opravami, revizemi a korekcemi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Vypovídá o skutečných cílech, ke kterým učitel směřuje, a to dokonce i tehdy, když si své cíle neuvědomuj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 </a:t>
            </a: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Mělo by být vždy validní (platné, správné) a reliabilní (spolehlivé)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BB98-5693-4029-AB69-B4ED611D3CA3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58600" y="223560"/>
            <a:ext cx="7026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4c600"/>
                </a:solidFill>
                <a:latin typeface="Century Gothic"/>
              </a:rPr>
              <a:t>PEDAGOGICKÉ HODNOCENÍ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4360" y="1989000"/>
            <a:ext cx="7920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cílené – v souladu s předem stanovenými cíl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systematické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efektivní – co nejvíce informací o žácích a pro žák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2057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e3d2d"/>
                </a:solidFill>
                <a:latin typeface="Century Gothic"/>
              </a:rPr>
              <a:t>informativní – co nejvíce srozumitelných informací pro žáky, učitele i rodič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1" name="Zástupný symbol pro číslo snímku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ABEA-679A-4637-AFC7-6D2899CF5586}" type="slidenum">
              <a:rPr b="0" lang="cs-CZ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3:18:01Z</dcterms:created>
  <dc:creator>PEDF</dc:creator>
  <dc:description/>
  <dc:language>en-US</dc:language>
  <cp:lastModifiedBy>panKlamperna</cp:lastModifiedBy>
  <dcterms:modified xsi:type="dcterms:W3CDTF">2012-12-29T18:35:48Z</dcterms:modified>
  <cp:revision>35</cp:revision>
  <dc:subject/>
  <dc:title>K HODNOCENÍ</dc:title>
</cp:coreProperties>
</file>