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5ED-194D-49C0-9B7D-C3D9C1FE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737-B9B2-482B-B9F4-B4D67C4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262-B661-4721-A6C1-59C38EA2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DCB-9A43-4925-A446-C245577B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4A7A-1525-4DE4-9C84-DE36BC5C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F7BB-7A23-4E03-BC60-2200E82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44A-7CC9-4C25-8256-A5E348DC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324-6821-4EA7-AC2F-CDA731DD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121-7DA4-4065-B638-0C850AF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1774-B61F-4030-BC45-468D070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5A1-8738-45D2-90BF-9D24C82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D37-5207-48E9-83D5-7199C24C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173C-5533-4794-9B6C-57CA3CF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8D7-B7AB-4181-9F4A-9D640DF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BCD-56AB-4490-AB5F-E1193940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959-D5F3-47C3-AAE2-1DA8EDAC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875A-4EA8-442B-B95E-FC416ACD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27183-9BC6-4989-BC39-37192323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FF168-F6EC-47EF-90C7-90EFC0C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9A278-15AE-4587-A6B7-6E3A0D7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D9E95-EED5-40DE-9B4E-8B39F3F6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892C8-EE1A-4C76-A986-015E217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D09-DF9C-4976-822C-5E83C9A8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E6115-9078-4B50-9C43-8DC38BE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F431F-67A7-4DAB-BFFB-E5A9171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B5F8F-EFC8-44AE-8562-F4039846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0B71F-BAA4-4B12-A7BD-23FFCE4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A11B3-5CCF-4856-A7A4-9206A7C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37AA-E929-49CD-9CE4-5558B57D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1CDAC-C881-48AF-BF49-17D654A0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D368A-C1CD-4431-86DC-297E1298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911B-A0DF-42E1-96BD-39EC70D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C688-0D4C-4A39-B051-642B98E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616-535C-4270-B19A-E676F76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ABB2-593C-45E2-BAF2-42113A78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D6B4-BDA8-4BD0-B390-1086A3CD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37D3-9676-44F0-B4DB-59CDDAC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5F3C-29B0-40DF-93DF-C6D56D75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1478-5F5E-4BE2-9543-3067D1B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129C-9E04-4A8D-BFCB-4C5ECB6E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C369-139F-4A87-8EE8-2887A8F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8341-A3B3-40FC-87B9-7CB88733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DFA6-B768-49BF-AB57-B1BD5278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B40-4CEC-4A21-B636-9E87A7C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634-C2CD-4F76-9E2C-9220BE1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008-A3A8-407E-9FD2-2A123E8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70E-1601-43B3-B15F-5C8443B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A14-F6B6-4485-BC78-B17109C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784-E806-438D-8717-D7889CD526E3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840D-833B-4A0B-91D3-AA1A774E7E5E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321-579A-473E-85C6-884ECE6FBF99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63A5-F59B-430E-8F52-281A17B75073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Tvorba ŠV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6AF-B6F5-4F03-8E5E-ED8C9108A6B9}" type="slidenum">
              <a:rPr b="0" lang="cs-CZ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ŠKOLNÍ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= všechny hodnotící procesy a projevy, které bezprostředně ovlivňují školní výuku nebo o ní vypovídaj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hodnocení 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otiv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ovlivňuje kvalitu výu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 je jedním z nejdůležitějších pedagogických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nástroj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, jak dosahovat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cíl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výuk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* pozn. Pozor na známkování jako jedinou motivaci ve výu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6D7E-A7A4-4926-B6F4-84993C15F43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ÚČASTNÍCI ŠKOLNÍHO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UČITEL HODNOTÍ: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ŽÁK HODNOTÍ: 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DIČE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  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polužáky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a (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      učitele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ŘEDITEL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VĚŘENÍ MIMOŠKOLNÍ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HODNOTÍ (?):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RACOVNÍCI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dokum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3CB-BDC9-4F65-8B0C-1E18A6F871A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1360"/>
                <a:tab algn="l" pos="1706400"/>
                <a:tab algn="l" pos="367344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ŘÍKLADY MEZNÍCH</a:t>
            </a:r>
            <a:br>
              <a:rPr sz="2900"/>
            </a:br>
            <a:r>
              <a:rPr b="1" lang="cs-CZ" sz="29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KONCEPC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ŠKOLNÍCH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VZDĚLÁVÁN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071800"/>
          <a:ext cx="8218440" cy="3733560"/>
        </p:xfrm>
        <a:graphic>
          <a:graphicData uri="http://schemas.openxmlformats.org/drawingml/2006/table">
            <a:tbl>
              <a:tblPr/>
              <a:tblGrid>
                <a:gridCol w="3772080"/>
                <a:gridCol w="338040"/>
                <a:gridCol w="336600"/>
                <a:gridCol w="3771720"/>
              </a:tblGrid>
              <a:tr h="18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vání poznatků učitelem, tj. zprostředkovatele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onci jednotlivých etap výuky, porovnávání výkonu žáků vzhledem k normě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ání žákova učení – důraz na sebevzdělání a svéprávnost žák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běžné zpětnovazebné rozvíjení cíleného získávání poznatků a přispívání k sebereflexi žáků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9CF-1A72-481E-8966-6B08564C51FE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JAKO CÍL VÝUK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64772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cení je nejen prostředkem, ale i cílem výuky. Tím by měl být nácvik sebehodnocení </a:t>
            </a:r>
            <a:br>
              <a:rPr sz="2000"/>
            </a:b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a hodnocení žáka žákem. (sociální a personální KK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tící kritéria by mohla být sestavována se žáky a měla by odpovídat jejich schopnostem (měnit se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Cílem je naučit žáka zacházet s chybami jako s příležitostí k poznání a poučení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A7C6-B065-457B-8F56-74C6A60A7EC0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9280" y="170172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ání dvou faktorů (něco s něčím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at můžeme buď s jiným srovnatelným objektem nebo s nějakým ideálním vzorem či normou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subjektiv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objektivní (v sociologii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BBC3-295E-45E9-A504-A0C99BFB41E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4888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FUNKCE 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FUNKCE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SOUVISL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motivační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mocionální (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cit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) stránko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znávac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zum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stránkou 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konativn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lidskou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vůl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k čin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4F74-3635-4F1F-89D5-DDA01DBE3713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0400" y="2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OMPETENCE, KRITÉRIA, STANDARD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70028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riterium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ěřítkem žákovy kompetence nebo složky kompeten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petence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íra připravenosti jedince realizovat určitou činnost nebo dostát určitému společenskému, kulturnímu, pracovnímu požadavku. Kompetence je vymezována jako výchovný ideál , jako hodnota, kterou je vhodné ve výuce rozvíj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Kritéria školního hodnocení i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zdělávací standar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slouží shodně jako hodnotící měřítka. V pojmu standard je skryt význam závaznost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e3d2d"/>
                </a:solidFill>
                <a:latin typeface="Century Gothic"/>
              </a:rPr>
              <a:t>Obvykle se ve státní správě standardy chápou v normativní podobě. (Naproti tomu je kritérium může být jakékoliv měřítko.)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D03-A54E-4DC3-A5DD-57B60A098913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</a:t>
            </a:r>
            <a:r>
              <a:rPr b="1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(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34760" y="1599840"/>
            <a:ext cx="743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název pro vlastnost, která se vyskytuje u více rozmanitých objektů, ale případ od případu nabývá různé míry hodno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bipolární (vlastnost je nebo není) a nebo se může kvantifikovat (obvykle na nějaké škále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Kladný pól hodnotové škály je cílem našeho jednání, naopak záporný pól je výzva ke změně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e3d2d"/>
                </a:solidFill>
                <a:latin typeface="Century Gothic"/>
              </a:rPr>
              <a:t>(Pozor na příliš obecná kritéria – např. chuť polévky – „když mi tzv. nechutná“, tak nevím co je toho příčinou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E26E-28E4-4895-85C0-2B3956C04DCC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 HODNOCENÍ (I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70028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běr kritérií je jedním z klíčových problémů hodnocení. Kritéria jsou měřítka žákových způsobilost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aždý stupeň hodnotící škály má být nějak účelně vymeze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ritérium je na rozdíl od standardu jakékoliv hodnotící měřítk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zdělávací standard je také kritérium, ale je v něm navíc skryt význam závaznost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A3E-E7BF-439E-9400-5F62C0989359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EVALUACE A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1700280"/>
            <a:ext cx="6993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dle Tondla:  „Evaluace představuje koncepční nebo strategickou složku školního hodnocení, která se vztahuje k obecným cílům vzdělávání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Tomu odpovídá i obecnější vymezení evaluace jak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pětnovazebního hodnocení“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valuace nejen informuje o stavu výuky vnější posuzovatele, ale jako každé hodnocení má formativní dopad, tj. zpětně působí na způsoby jednání a myšlení učitelů a dalších pedagogických pracovníků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tit se může např. školský systém, škola, třída, žák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28A-3B55-4754-B291-BC504DF7F315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53560" y="250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62864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ý proces, který vede k určení kvalit a výkonů vykazovaných žákem nebo skupinou žáků či vzdělávacím programem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Je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systematickou,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tj. cílevědomě organizovanou činností doprovázenou jeho záměrnými opravami, revizemi a korekcem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ypovídá o skutečných cílech, ke kterým učitel směřuje, a to dokonce i tehdy, když si své cíle neuvědomuj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ělo by být vždy validní (platné, správné) a reliabilní (spolehlivé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3FB4-B98B-478E-A185-823D7C34C3B0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8600" y="22356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989000"/>
            <a:ext cx="7920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cílené – v souladu s předem stanovenými cíl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fektivní – co nejvíce informací o žácích a pro 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ativní – co nejvíce srozumitelných informací pro žáky, učitele i rodič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1ED-7407-4BDB-AA3C-DE58567A8E7A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18:01Z</dcterms:created>
  <dc:creator>PEDF</dc:creator>
  <dc:description/>
  <dc:language>en-US</dc:language>
  <cp:lastModifiedBy>panKlamperna</cp:lastModifiedBy>
  <dcterms:modified xsi:type="dcterms:W3CDTF">2012-12-29T18:35:48Z</dcterms:modified>
  <cp:revision>35</cp:revision>
  <dc:subject/>
  <dc:title>K HODNOCENÍ</dc:title>
</cp:coreProperties>
</file>