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2817-02E2-4713-B457-D6C0A9744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F28F-09D0-4EBE-ADB7-286A53F7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FE43-6201-4511-9B3F-7D13E7376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8988-7768-4F2C-AE84-3FA20BFE2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09B7-A478-4B2E-8704-1CDBAAFD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57DF-8035-49ED-BB43-654E891A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42A0-EAFF-400D-A6B3-9B869839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4458-EEA1-4E6D-9A56-B0740960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AD6D-8C35-4677-8E0B-B807ED41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972C-6950-4620-B980-55707A1E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723B-B527-46E4-910F-C92A5F57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70F3-DC5C-41BA-A19D-7324E7EE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1600-6099-4E06-BB8B-48C7F92C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86E0-73CC-4ED7-AF30-F8CC9C60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2A84-71FD-4F65-A122-D7D16CC9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B031-FED7-4505-AEFC-D43953BE9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A40D-C2D5-49DA-8E17-953C579A1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01C579-03B5-493A-BF54-83F3B42EC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A2786B-C1C8-412D-A21F-03933AA3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5F9DE9-9593-4A50-A3E9-E67B7781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017CF0-8FB2-405F-845A-3FF334D9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3513AC-04E2-4C7A-AF7D-87CDEEB8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30E3-B4C6-4226-AB7C-EF9E4EBE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53F03B-ECB0-4B13-8E13-CC13E652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23E234-CD52-49CD-8DD3-52D6303F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B766D3-4D61-4D4C-8553-2C0FDDCB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0AE248-84FC-4B30-85B9-21D83439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5671F9-6A24-45D1-982D-DA13F2F8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5C1194-3DA8-45C2-969B-34AAEE67F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11E351-A574-4B6D-B6FD-D7F0A9C9A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207FB-90F3-4F8C-A71F-EED27FC4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9FE39-1047-4166-92F8-85094895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68FBB-0E69-4276-B29A-5ABCA711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B2F1-527C-4E9B-825F-65A00FA2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E8EAE-8908-4A0F-AC06-23F847D7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40E52-2F8C-4561-A6B2-8FABCAB7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17B6D-5AE6-4CBD-9907-BCD05592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1F2E4-DE24-4FED-BE68-9E570A30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BCA87-AB13-4E57-A449-E4EFDD35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69B2F-D78D-4B40-B5A8-5C93FAB9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D39CD-7F05-42B9-B999-C04AB6C2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7F659-C5E5-4447-B01D-D123AD3C7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2DAC3-CA4B-49D7-A69A-C2248D58C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937C-DB22-4F50-B724-B30B82DD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198D-65E8-46ED-BA2B-6C4F3CA5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09C0-7DF3-4E33-8429-09F11725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7E4B-BE99-4508-8D60-A2535BC0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F26E-8A41-45B3-B65D-71441EF6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2255-FDE5-4FFF-8290-B2D33A98DAB2}" type="slidenum">
              <a:rPr b="0" lang="cs-CZ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7098-D68D-4211-884B-0A0B85F4D624}" type="slidenum">
              <a:rPr b="0" lang="cs-CZ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A2CA-37F6-42AA-81D2-565453333C48}" type="slidenum">
              <a:rPr b="0" lang="cs-CZ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4635-625F-462B-9DD4-2FCEC8C2A1FE}" type="slidenum">
              <a:rPr b="0" lang="cs-CZ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94c600"/>
                </a:solidFill>
                <a:latin typeface="Century Gothic"/>
              </a:rPr>
              <a:t>HODNOCENÍ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24242"/>
                </a:solidFill>
                <a:latin typeface="Century Gothic"/>
              </a:rPr>
              <a:t>Tvorba ŠVP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7" name="Zástupný symbol pro číslo snímku 3"/>
          <p:cNvSpPr/>
          <p:nvPr/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B96F-DE4F-4710-A2A2-1F0A8FA56B79}" type="slidenum">
              <a:rPr b="0" lang="cs-CZ" sz="1200" spc="-1" strike="noStrike">
                <a:solidFill>
                  <a:srgbClr val="94c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58600" y="269640"/>
            <a:ext cx="7026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ŠKOLNÍ HODNOCENÍ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= všechny hodnotící procesy a projevy, které bezprostředně ovlivňují školní výuku nebo o ní vypovídají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Školní hodnocení :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motivuj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informuj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ovlivňuje kvalitu výuky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Hodnocení je jedním z nejdůležitějších pedagogických </a:t>
            </a:r>
            <a:r>
              <a:rPr b="0" i="1" lang="cs-CZ" sz="2200" spc="-1" strike="noStrike">
                <a:solidFill>
                  <a:srgbClr val="3e3d2d"/>
                </a:solidFill>
                <a:latin typeface="Century Gothic"/>
              </a:rPr>
              <a:t>nástrojů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, jak dosahovat </a:t>
            </a:r>
            <a:r>
              <a:rPr b="0" i="1" lang="cs-CZ" sz="2200" spc="-1" strike="noStrike">
                <a:solidFill>
                  <a:srgbClr val="3e3d2d"/>
                </a:solidFill>
                <a:latin typeface="Century Gothic"/>
              </a:rPr>
              <a:t>cílů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 výuky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* pozn. Pozor na známkování jako jedinou motivaci ve výuce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4" name="Zástupný symbol pro číslo snímku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6D60-0A37-4031-BBEE-26F2929F0676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ÚČASTNÍCI ŠKOLNÍHO HODNOCENÍ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24000" y="1483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UČITEL HODNOTÍ:   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ŽÁK HODNOTÍ:    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RODIČE HODNOTÍ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žáky                      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spolužáky         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žáka (?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výuku                    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výuku                 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výuku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sám sebe            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sám sebe                  učitele               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učitel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ŘEDITEL 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POVĚŘENÍ MIMOŠKOLNÍ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HODNOTÍ (?): 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PRACOVNÍCI HODNOTÍ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žáky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žáky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výuku 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výuku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učitele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učitel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školní dokumentaci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7" name="Zástupný symbol pro číslo snímku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6261-4109-4960-B400-65875844EDD5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917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41360"/>
                <a:tab algn="l" pos="1706400"/>
                <a:tab algn="l" pos="367344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94c600"/>
                </a:solidFill>
                <a:latin typeface="Century Gothic"/>
              </a:rPr>
              <a:t>	</a:t>
            </a: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	</a:t>
            </a: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PŘÍKLADY MEZNÍCH</a:t>
            </a:r>
            <a:br>
              <a:rPr sz="2900"/>
            </a:br>
            <a:r>
              <a:rPr b="1" lang="cs-CZ" sz="2900" spc="-1" strike="noStrike">
                <a:solidFill>
                  <a:srgbClr val="94c600"/>
                </a:solidFill>
                <a:latin typeface="Century Gothic"/>
              </a:rPr>
              <a:t>	</a:t>
            </a:r>
            <a:r>
              <a:rPr b="1" lang="cs-CZ" sz="2500" spc="-1" strike="noStrike">
                <a:solidFill>
                  <a:srgbClr val="94c600"/>
                </a:solidFill>
                <a:latin typeface="Century Gothic"/>
              </a:rPr>
              <a:t>KONCEPCÍ </a:t>
            </a:r>
            <a:r>
              <a:rPr b="1" lang="cs-CZ" sz="2500" spc="-1" strike="noStrike">
                <a:solidFill>
                  <a:srgbClr val="94c600"/>
                </a:solidFill>
                <a:latin typeface="Century Gothic"/>
              </a:rPr>
              <a:t>	</a:t>
            </a:r>
            <a:r>
              <a:rPr b="1" lang="cs-CZ" sz="2500" spc="-1" strike="noStrike">
                <a:solidFill>
                  <a:srgbClr val="94c600"/>
                </a:solidFill>
                <a:latin typeface="Century Gothic"/>
              </a:rPr>
              <a:t>	</a:t>
            </a:r>
            <a:r>
              <a:rPr b="1" lang="cs-CZ" sz="2500" spc="-1" strike="noStrike">
                <a:solidFill>
                  <a:srgbClr val="94c600"/>
                </a:solidFill>
                <a:latin typeface="Century Gothic"/>
              </a:rPr>
              <a:t>ŠKOLNÍCH </a:t>
            </a:r>
            <a:r>
              <a:rPr b="1" lang="cs-CZ" sz="2500" spc="-1" strike="noStrike">
                <a:solidFill>
                  <a:srgbClr val="94c600"/>
                </a:solidFill>
                <a:latin typeface="Century Gothic"/>
              </a:rPr>
              <a:t>	</a:t>
            </a:r>
            <a:r>
              <a:rPr b="1" lang="cs-CZ" sz="2500" spc="-1" strike="noStrike">
                <a:solidFill>
                  <a:srgbClr val="94c600"/>
                </a:solidFill>
                <a:latin typeface="Century Gothic"/>
              </a:rPr>
              <a:t>VZDĚLÁVÁNÍ </a:t>
            </a:r>
            <a:r>
              <a:rPr b="1" lang="cs-CZ" sz="2500" spc="-1" strike="noStrike">
                <a:solidFill>
                  <a:srgbClr val="94c600"/>
                </a:solidFill>
                <a:latin typeface="Century Gothic"/>
              </a:rPr>
              <a:t>	</a:t>
            </a:r>
            <a:r>
              <a:rPr b="1" lang="cs-CZ" sz="2500" spc="-1" strike="noStrike">
                <a:solidFill>
                  <a:srgbClr val="94c600"/>
                </a:solidFill>
                <a:latin typeface="Century Gothic"/>
              </a:rPr>
              <a:t>	</a:t>
            </a:r>
            <a:r>
              <a:rPr b="1" lang="cs-CZ" sz="2500" spc="-1" strike="noStrike">
                <a:solidFill>
                  <a:srgbClr val="94c600"/>
                </a:solidFill>
                <a:latin typeface="Century Gothic"/>
              </a:rPr>
              <a:t>HODNOCENÍ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457200" y="2071800"/>
          <a:ext cx="8218440" cy="3733560"/>
        </p:xfrm>
        <a:graphic>
          <a:graphicData uri="http://schemas.openxmlformats.org/drawingml/2006/table">
            <a:tbl>
              <a:tblPr/>
              <a:tblGrid>
                <a:gridCol w="3772080"/>
                <a:gridCol w="338040"/>
                <a:gridCol w="336600"/>
                <a:gridCol w="3771720"/>
              </a:tblGrid>
              <a:tr h="186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ávání poznatků učitelem, tj. zprostředkovatele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konci jednotlivých etap výuky, porovnávání výkonu žáků vzhledem k normě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6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ování žákova učení – důraz na sebevzdělání a svéprávnost žáka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ůběžné zpětnovazebné rozvíjení cíleného získávání poznatků a přispívání k sebereflexi žáků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Zástupný symbol pro číslo snímku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7883-6420-4AF0-8202-8BDAC0B4F218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HODNOCENÍ JAKO CÍL VÝUKY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826920" y="1647720"/>
            <a:ext cx="677736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Hodnocení je nejen prostředkem, ale i cílem výuky. Tím by měl být nácvik sebehodnocení </a:t>
            </a:r>
            <a:br>
              <a:rPr sz="2000"/>
            </a:b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a hodnocení žáka žákem. (sociální a personální KK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Hodnotící kritéria by mohla být sestavována se žáky a měla by odpovídat jejich schopnostem (měnit se)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Cílem je naučit žáka zacházet s chybami jako s příležitostí k poznání a poučení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3" name="Zástupný symbol pro číslo snímku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0149-FA1B-4A63-8B5E-5D04637EE4DC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000" y="-387360"/>
            <a:ext cx="8675640" cy="17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94c600"/>
                </a:solidFill>
                <a:latin typeface="Century Gothic"/>
              </a:rPr>
              <a:t>HODNOCENÍ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719280" y="1701720"/>
            <a:ext cx="87487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96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porovnávání dvou faktorů (něco s něčím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96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96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porovnávat můžeme buď s jiným srovnatelným objektem nebo s nějakým ideálním vzorem či normou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96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96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Hodnocení: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- subjektivní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196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- objektivní (v sociologii?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0" name="Zástupný symbol pro číslo snímku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35AB-4296-4382-8527-7414145DEEF1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48880" y="259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FUNKCE  HODNOCENÍ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60020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tabLst>
                <a:tab algn="l" pos="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e3d2d"/>
                </a:solidFill>
                <a:latin typeface="Century Gothic"/>
              </a:rPr>
              <a:t>FUNKCE</a:t>
            </a:r>
            <a:r>
              <a:rPr b="1" lang="cs-CZ" sz="28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lang="cs-CZ" sz="2800" spc="-1" strike="noStrike">
                <a:solidFill>
                  <a:srgbClr val="3e3d2d"/>
                </a:solidFill>
                <a:latin typeface="Century Gothic"/>
              </a:rPr>
              <a:t>SOUVISLOST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motivační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emocionální (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citovou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) stránkou 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hodnocení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poznávací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rozumovou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 stránkou hodnocení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konativní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    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lidskou 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vůlí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 k činu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3" name="Zástupný symbol pro číslo snímku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B92E-ED67-4B58-9E5C-B239AEB543BD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60400" y="2426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KOMPETENCE, KRITÉRIA, STANDARDY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42560" y="1700280"/>
            <a:ext cx="6777000" cy="41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e3d2d"/>
                </a:solidFill>
                <a:latin typeface="Century Gothic"/>
              </a:rPr>
              <a:t>Kriterium</a:t>
            </a: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 je měřítkem žákovy kompetence nebo složky kompetence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e3d2d"/>
                </a:solidFill>
                <a:latin typeface="Century Gothic"/>
              </a:rPr>
              <a:t>Kompetence</a:t>
            </a: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 je míra připravenosti jedince realizovat určitou činnost nebo dostát určitému společenskému, kulturnímu, pracovnímu požadavku. Kompetence je vymezována jako výchovný ideál , jako hodnota, kterou je vhodné ve výuce rozvíjet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Kritéria školního hodnocení i </a:t>
            </a:r>
            <a:r>
              <a:rPr b="1" lang="cs-CZ" sz="2000" spc="-1" strike="noStrike">
                <a:solidFill>
                  <a:srgbClr val="3e3d2d"/>
                </a:solidFill>
                <a:latin typeface="Century Gothic"/>
              </a:rPr>
              <a:t>vzdělávací standardy</a:t>
            </a: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 slouží shodně jako hodnotící měřítka. V pojmu standard je skryt význam závaznosti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e3d2d"/>
                </a:solidFill>
                <a:latin typeface="Century Gothic"/>
              </a:rPr>
              <a:t>Obvykle se ve státní správě standardy chápou v normativní podobě. (Naproti tomu je kritérium může být jakékoliv měřítko.) 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6" name="Zástupný symbol pro číslo snímku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F78C-5B8F-4DC9-BA31-4DC6196B4BDF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280" y="2696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KRITÉRIUM</a:t>
            </a:r>
            <a:r>
              <a:rPr b="1" lang="cs-CZ" sz="40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HODNOCENÍ (I)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734760" y="1599840"/>
            <a:ext cx="7437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název pro vlastnost, která se vyskytuje u více rozmanitých objektů, ale případ od případu nabývá různé míry hodnoty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bipolární (vlastnost je nebo není) a nebo se může kvantifikovat (obvykle na nějaké škále)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34272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e3d2d"/>
                </a:solidFill>
                <a:latin typeface="Century Gothic"/>
              </a:rPr>
              <a:t>Kladný pól hodnotové škály je cílem našeho jednání, naopak záporný pól je výzva ke změně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34272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3e3d2d"/>
                </a:solidFill>
                <a:latin typeface="Century Gothic"/>
              </a:rPr>
              <a:t>(Pozor na příliš obecná kritéria – např. chuť polévky – „když mi tzv. nechutná“, tak nevím co je toho příčinou.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9" name="Zástupný symbol pro číslo snímku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CE5C-BF55-4BD9-B7AC-4060964DF916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53560" y="2696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KRITÉRIUM HODNOCENÍ (II)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826920" y="1700280"/>
            <a:ext cx="677736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Výběr kritérií je jedním z klíčových problémů hodnocení. Kritéria jsou měřítka žákových způsobilostí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Každý stupeň hodnotící škály má být nějak účelně vymezen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Kritérium je na rozdíl od standardu jakékoliv hodnotící měřítko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Vzdělávací standard je také kritérium, ale je v něm navíc skryt význam závaznosti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2" name="Zástupný symbol pro číslo snímku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DABF-4C39-427E-9A3C-6F8AF924EE91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58600" y="269640"/>
            <a:ext cx="7026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EVALUACE A HODNOCENÍ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826560" y="1700280"/>
            <a:ext cx="6993000" cy="41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podle Tondla:  „Evaluace představuje koncepční nebo strategickou složku školního hodnocení, která se vztahuje k obecným cílům vzdělávání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Tomu odpovídá i obecnější vymezení evaluace jako </a:t>
            </a:r>
            <a:r>
              <a:rPr b="1" lang="cs-CZ" sz="2000" spc="-1" strike="noStrike">
                <a:solidFill>
                  <a:srgbClr val="3e3d2d"/>
                </a:solidFill>
                <a:latin typeface="Century Gothic"/>
              </a:rPr>
              <a:t>zpětnovazebního hodnocení“</a:t>
            </a: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Evaluace nejen informuje o stavu výuky vnější posuzovatele, ale jako každé hodnocení má formativní dopad, tj. zpětně působí na způsoby jednání a myšlení učitelů a dalších pedagogických pracovníků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Hodnotit se může např. školský systém, škola, třída, žák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5" name="Zástupný symbol pro číslo snímku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DDFD-5AD7-44D5-A117-55F6342A80EA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53560" y="25056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PEDAGOGICKÉ HODNOCENÍ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826920" y="1628640"/>
            <a:ext cx="7345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Systematický proces, který vede k určení kvalit a výkonů vykazovaných žákem nebo skupinou žáků či vzdělávacím programem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Je 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systematickou, 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tj. cílevědomě organizovanou činností doprovázenou jeho záměrnými opravami, revizemi a korekcemi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Vypovídá o skutečných cílech, ke kterým učitel směřuje, a to dokonce i tehdy, když si své cíle neuvědomuje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 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Mělo by být vždy validní (platné, správné) a reliabilní (spolehlivé)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8" name="Zástupný symbol pro číslo snímku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04EE-536A-4633-8232-4A27CD5189F0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58600" y="223560"/>
            <a:ext cx="7026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PEDAGOGICKÉ HODNOCENÍ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84360" y="1989000"/>
            <a:ext cx="7920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2057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cílené – v souladu s předem stanovenými cíli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2057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systematické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2057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efektivní – co nejvíce informací o žácích a pro žáky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2057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informativní – co nejvíce srozumitelných informací pro žáky, učitele i rodič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1" name="Zástupný symbol pro číslo snímku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8F1E-8CDA-417C-997B-7358F55ED912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1T13:18:01Z</dcterms:created>
  <dc:creator>PEDF</dc:creator>
  <dc:description/>
  <dc:language>en-US</dc:language>
  <cp:lastModifiedBy>panKlamperna</cp:lastModifiedBy>
  <dcterms:modified xsi:type="dcterms:W3CDTF">2012-12-29T18:35:48Z</dcterms:modified>
  <cp:revision>35</cp:revision>
  <dc:subject/>
  <dc:title>K HODNOCENÍ</dc:title>
</cp:coreProperties>
</file>