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D08-4819-402F-A088-F6C4F10F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C47-9E0D-4C92-9B3B-D4E40588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705-BB26-4FEA-9FDF-14DE1CE0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76C-ED0F-4EE3-A5D4-7D6CCBCF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73D-FEE1-44A9-8D35-53287E08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3607-A469-4872-8802-F042DE5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ABDE-AE7C-4289-A9FC-727F59C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1024-79DB-40AE-A49C-F9C1345F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270-267A-4BBE-AA01-3DD059C1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7F1-76AC-49FD-BE51-5EC9DB9F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829-DA2C-4319-98C3-FE7443D7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632-A299-45A2-8437-CB0B96CF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0C5-DB47-45D7-93D0-0113644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C6F1-4461-416A-8088-978046C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C637-801F-45F2-B454-EA51A19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B072-C21E-4D36-84DF-C03BED97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A74F-047C-4DD9-896F-5AFF5CBA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87587-31AC-4567-9425-BC4A971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51596-068D-4093-8B0B-9F937197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6F73C-6662-4D26-90A2-09E6B4EB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7B5D6-B19B-4C11-959E-0FAF1324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2946F-D0D1-4951-B7B1-47EB0BE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8E8-BE3F-4D37-B112-AEB8750E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DEE87-13EF-4AD5-918A-075D1CD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2EB5C-F45E-466B-85BE-318D6A1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9E7C9-1BEA-4C2A-84CA-1679D14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4D24B-4019-4A48-9CF0-602AC01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63ED6-F754-4945-BB24-ABF8595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05096-B7B0-468C-88EF-7EC28B19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D3E34-9D69-49E3-B6C4-C7E095E5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A8D8-1407-491E-9656-1DEEC111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9286-934A-4411-8C4B-820170F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335CC-CCCA-476A-945D-96394EE8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8CE-65CB-4AB7-BB59-95B36E5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69B1-06B9-45CE-9A55-FA1AA99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2D7B-64DB-42BB-B6BE-93BB92CE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7C75-D24D-45F0-9025-63EDEE99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7083-B883-46D9-B4B8-E2CD411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DFC8-CAE2-46E6-B108-84CF93C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411E-B0CC-4B23-AF6F-60015C0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C7C3-656A-4E9D-AF7A-14302A21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0DDE-9DEC-48E3-BB58-6A39B7EB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D802-A4E8-4650-BCC6-CDAFAD5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A97-B43D-4986-A927-E40A439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D8C-EA09-4617-8F9F-5F1F0C9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A5B-054C-471A-A019-086CF66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B29-DCB2-40D3-8CBC-26B5657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CE0-D4B7-402D-9A58-EAC4521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5D6-95F6-49A7-91A3-50E8F2B2A885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AECA-E790-4A21-9F8D-EE50A8B83E35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661F-4E84-4FF7-A3A0-E65425A6D274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9164-671B-4968-848B-97D4598AD60F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Tvorba ŠV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0CCA-7F00-40D2-8F3D-BA64F63C3302}" type="slidenum">
              <a:rPr b="0" lang="cs-CZ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ŠKOLNÍ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= všechny hodnotící procesy a projevy, které bezprostředně ovlivňují školní výuku nebo o ní vypovídaj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hodnocení 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otiv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ovlivňuje kvalitu výu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 je jedním z nejdůležitějších pedagogických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nástroj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, jak dosahovat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cíl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výuk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* pozn. Pozor na známkování jako jedinou motivaci ve výu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B55-BC14-48F9-B030-06D731A1154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ÚČASTNÍCI ŠKOLNÍHO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UČITEL HODNOTÍ: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ŽÁK HODNOTÍ: 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DIČE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  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polužáky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a (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      učitele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ŘEDITEL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VĚŘENÍ MIMOŠKOLNÍ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HODNOTÍ (?):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RACOVNÍCI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dokum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3DA-9DEB-4E31-8FFB-F7ED3BA50442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1360"/>
                <a:tab algn="l" pos="1706400"/>
                <a:tab algn="l" pos="367344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ŘÍKLADY MEZNÍCH</a:t>
            </a:r>
            <a:br>
              <a:rPr sz="2900"/>
            </a:br>
            <a:r>
              <a:rPr b="1" lang="cs-CZ" sz="29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KONCEPC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ŠKOLNÍCH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VZDĚLÁVÁN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071800"/>
          <a:ext cx="8218440" cy="3733560"/>
        </p:xfrm>
        <a:graphic>
          <a:graphicData uri="http://schemas.openxmlformats.org/drawingml/2006/table">
            <a:tbl>
              <a:tblPr/>
              <a:tblGrid>
                <a:gridCol w="3772080"/>
                <a:gridCol w="338040"/>
                <a:gridCol w="336600"/>
                <a:gridCol w="3771720"/>
              </a:tblGrid>
              <a:tr h="18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vání poznatků učitelem, tj. zprostředkovatele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onci jednotlivých etap výuky, porovnávání výkonu žáků vzhledem k normě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ání žákova učení – důraz na sebevzdělání a svéprávnost žák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běžné zpětnovazebné rozvíjení cíleného získávání poznatků a přispívání k sebereflexi žáků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661-7890-4548-999C-7955510C1C95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JAKO CÍL VÝUK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64772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cení je nejen prostředkem, ale i cílem výuky. Tím by měl být nácvik sebehodnocení </a:t>
            </a:r>
            <a:br>
              <a:rPr sz="2000"/>
            </a:b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a hodnocení žáka žákem. (sociální a personální KK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tící kritéria by mohla být sestavována se žáky a měla by odpovídat jejich schopnostem (měnit se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Cílem je naučit žáka zacházet s chybami jako s příležitostí k poznání a poučení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BC95-10BA-4C0B-8CE4-033BE3AB39F5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9280" y="170172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ání dvou faktorů (něco s něčím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at můžeme buď s jiným srovnatelným objektem nebo s nějakým ideálním vzorem či normou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subjektiv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objektivní (v sociologii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399A-DD68-46EE-86FC-9ECE8EB0FA12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4888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FUNKCE 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FUNKCE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SOUVISL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motivační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mocionální (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cit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) stránko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znávac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zum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stránkou 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konativn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lidskou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vůl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k čin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EC15-15B2-4654-9C22-44E94F98FEB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0400" y="2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OMPETENCE, KRITÉRIA, STANDARD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70028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riterium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ěřítkem žákovy kompetence nebo složky kompeten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petence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íra připravenosti jedince realizovat určitou činnost nebo dostát určitému společenskému, kulturnímu, pracovnímu požadavku. Kompetence je vymezována jako výchovný ideál , jako hodnota, kterou je vhodné ve výuce rozvíj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Kritéria školního hodnocení i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zdělávací standar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slouží shodně jako hodnotící měřítka. V pojmu standard je skryt význam závaznost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e3d2d"/>
                </a:solidFill>
                <a:latin typeface="Century Gothic"/>
              </a:rPr>
              <a:t>Obvykle se ve státní správě standardy chápou v normativní podobě. (Naproti tomu je kritérium může být jakékoliv měřítko.)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094-36A2-4613-8565-4F593051792E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</a:t>
            </a:r>
            <a:r>
              <a:rPr b="1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(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34760" y="1599840"/>
            <a:ext cx="743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název pro vlastnost, která se vyskytuje u více rozmanitých objektů, ale případ od případu nabývá různé míry hodno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bipolární (vlastnost je nebo není) a nebo se může kvantifikovat (obvykle na nějaké škále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Kladný pól hodnotové škály je cílem našeho jednání, naopak záporný pól je výzva ke změně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e3d2d"/>
                </a:solidFill>
                <a:latin typeface="Century Gothic"/>
              </a:rPr>
              <a:t>(Pozor na příliš obecná kritéria – např. chuť polévky – „když mi tzv. nechutná“, tak nevím co je toho příčinou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613-CFDB-479E-9E23-A58BB0E009A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 HODNOCENÍ (I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70028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běr kritérií je jedním z klíčových problémů hodnocení. Kritéria jsou měřítka žákových způsobilost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aždý stupeň hodnotící škály má být nějak účelně vymeze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ritérium je na rozdíl od standardu jakékoliv hodnotící měřítk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zdělávací standard je také kritérium, ale je v něm navíc skryt význam závaznost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E47-8420-4583-839A-24C6E686439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EVALUACE A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1700280"/>
            <a:ext cx="6993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dle Tondla:  „Evaluace představuje koncepční nebo strategickou složku školního hodnocení, která se vztahuje k obecným cílům vzdělávání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Tomu odpovídá i obecnější vymezení evaluace jak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pětnovazebního hodnocení“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valuace nejen informuje o stavu výuky vnější posuzovatele, ale jako každé hodnocení má formativní dopad, tj. zpětně působí na způsoby jednání a myšlení učitelů a dalších pedagogických pracovníků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tit se může např. školský systém, škola, třída, žák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D9C5-F3C3-44D2-A4F3-873908122DC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53560" y="250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62864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ý proces, který vede k určení kvalit a výkonů vykazovaných žákem nebo skupinou žáků či vzdělávacím programem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Je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systematickou,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tj. cílevědomě organizovanou činností doprovázenou jeho záměrnými opravami, revizemi a korekcem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ypovídá o skutečných cílech, ke kterým učitel směřuje, a to dokonce i tehdy, když si své cíle neuvědomuj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ělo by být vždy validní (platné, správné) a reliabilní (spolehlivé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D06B-45C5-4286-8677-5110CC15D58F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8600" y="22356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989000"/>
            <a:ext cx="7920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cílené – v souladu s předem stanovenými cíl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fektivní – co nejvíce informací o žácích a pro 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ativní – co nejvíce srozumitelných informací pro žáky, učitele i rodič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1A6-550A-4171-8784-C43E41258934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18:01Z</dcterms:created>
  <dc:creator>PEDF</dc:creator>
  <dc:description/>
  <dc:language>en-US</dc:language>
  <cp:lastModifiedBy>panKlamperna</cp:lastModifiedBy>
  <dcterms:modified xsi:type="dcterms:W3CDTF">2012-12-29T18:35:48Z</dcterms:modified>
  <cp:revision>35</cp:revision>
  <dc:subject/>
  <dc:title>K HODNOCENÍ</dc:title>
</cp:coreProperties>
</file>