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637E-7A88-4E3D-8EA2-82ABBF1F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DDE-A2E7-4F3C-8AB2-20096077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11B5-B957-4A1C-AACF-FA65B1CB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1DD-BCDF-45ED-8DA2-BCAEE02F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0681-60B2-4F8E-8297-923BE6A0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820E-14C1-4124-9749-2B65B1BA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A904-F8AC-47F5-BE5E-24DD30A7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B8D0-B7DC-4923-93DD-0B059D61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2BEF-84F0-4ABC-9B9E-4EB46987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F1D4-5911-4649-AD0F-BB5D5C95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A2D5-2089-4C1A-BD50-D7E1EF30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16B-DC33-48F9-AAFD-0047B1E0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66F3-A954-4986-99DF-9F599597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E916-3FBD-4918-BED3-CC44C7B9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1FDC-413E-4B32-AC0D-C0FCDD73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6629-4714-4F46-B597-7EB9EBED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7459-0F6C-4726-8CB5-38996C26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083-48ED-4795-8260-468A0B27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849-2F7A-4FC5-B9DE-D1F3521B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4D9-5657-41D2-B5FD-22AE085D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2E7-7550-41B7-B00B-7D0EBCF6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C0F-C2DB-4E2D-8BE0-585398DD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C77-973E-422A-84BF-6228D539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05A-CB0E-4A0B-8E99-6E40A672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27BB-1593-4DB9-88B3-243DE41B00B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5A31-6CFB-4E6C-8A64-2761FB070A2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Zásadní rozdíl na začátek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42712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 RV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jsou stanoveny vzdělávací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ob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412"/>
                </a:solidFill>
                <a:latin typeface="Verdana"/>
              </a:rPr>
              <a:t>v ŠV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znikají na základě vzdělávacích oborů jednotlivé vyučovací </a:t>
            </a:r>
            <a:r>
              <a:rPr b="1" lang="en-US" sz="2800" spc="-1" strike="noStrike">
                <a:solidFill>
                  <a:srgbClr val="e92412"/>
                </a:solidFill>
                <a:latin typeface="Verdana"/>
              </a:rPr>
              <a:t>předmě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tožné s obor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ahrnující více celých oborů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ajednou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integra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zahrnující kromě jednoho oboru i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alš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části jiných oborů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integrace téma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6922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Verdana"/>
              </a:rPr>
              <a:t>Učební osnovy v ŠV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B98-E810-40B3-9502-00C5877117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truktura učebních osnov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42760"/>
            <a:ext cx="822960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áze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harakteristik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yučovacího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zdělávací obsa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yučovacího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081-E1F5-42C7-B952-65BACADA9E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Charakteristika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vyučovacího předmět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obsahové, časové a organizační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ymezení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 jakých vzd. oborů, příp. průřezových témat je předmět utvoř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řednostňované formy realiz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časové dotace, roční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íp. kde se předmět realizuje, zda se žáci dělí do skupin ap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749-E64E-4DDB-B46E-2947833DB1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Charakteristika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vyučovacího předmět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3476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výchovné a vzdělávací strateg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polečně upřednostňované postupy, metody a formy práce (příp. aktivity, příležitosti, pravidla), které povedou v daném předmětu k utváření a rozvíjení klíčových kompetencí žá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ou rozpracovávány n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úrovni vyučovacího předmětu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ycházejí z výchovných a vzdělávacích strategií popisovaných na úrovni ško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ou formulován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 každé klíčové kompetenci zvlášť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nebo mohou být formulován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 více kompetencím najedn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ou ve výuc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platňovány všemi učiteli daného vyučovacího předmě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E29-5F86-4E3A-9E36-634896DC98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Výchovné a vzdělávací strategie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ůležitý rozdí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ie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jsou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ostupy –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jak, pomocí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jakých prostředků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hce učitel rozvíjet klíčové kompetence žák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ie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nejsou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íle, rozpracované klíčové kompetence nebo očekávané výstupy – čeho chceme u žáků rozvíj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51B-1307-48D5-B216-2D266AD625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Vzdělávací obsah předmět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ribuce očekávaných výstupů do ročníků nebo delších časových úse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ýběr a přiřazení uči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atické okruhy průřezových témat (propojené s výstupy/učivem), konkretizace činností a námětů výu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íp. mezipředmětové souvislosti, poznám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A1A-5E40-4656-BAE8-F51BCC7AC8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8252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Nejběžnější způsob zpracování – tabul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19040" y="923760"/>
          <a:ext cx="8353440" cy="5543640"/>
        </p:xfrm>
        <a:graphic>
          <a:graphicData uri="http://schemas.openxmlformats.org/drawingml/2006/table">
            <a:tbl>
              <a:tblPr/>
              <a:tblGrid>
                <a:gridCol w="2054160"/>
                <a:gridCol w="2054520"/>
                <a:gridCol w="2276280"/>
                <a:gridCol w="1968480"/>
              </a:tblGrid>
              <a:tr h="522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vyučovacího předmě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ýstup předmě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ýstup rozpracova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zformulovaný pro daný ročník, popřípadě delší časový úsek - na základě distribu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rozpraco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čekávaného výstupu/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 RVP Z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ivo předmě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ivo začleněné do ročníku a rozpracov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 vazbě na d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nkretizov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atické okruhy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ované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ůřezového tém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tematické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ruhu, námět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innosti, případn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lší rozpraco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lší údaj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např.: přesahy a vazb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známky at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jádření vztah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vazeb k další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ředmětů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projektům apo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F14-CA50-46BF-A791-9743F32CF9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Další zásady při rozpracování vzdělávacího obsah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i formulování výstupů se užívají „aktivní slovesa“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žák) jmenuje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vede, popíše, vysvětlí, zhodnotí, porovná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snování do delších časových úseků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tomto případě musí být minimálně jedn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 položek (učivo, nebo očekávané výstupy) distribuovány do roční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39272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NDr. Jan Maršák, C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-mail: jmarsak@seznam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D32-E29B-43EA-A90D-A95AB89521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7:16:09Z</dcterms:created>
  <dc:creator>Hucinova</dc:creator>
  <dc:description/>
  <dc:language>en-US</dc:language>
  <cp:lastModifiedBy>Pavlík</cp:lastModifiedBy>
  <dcterms:modified xsi:type="dcterms:W3CDTF">2006-05-10T17:27:26Z</dcterms:modified>
  <cp:revision>30</cp:revision>
  <dc:subject/>
  <dc:title>Učební osnovy v ŠVP</dc:title>
</cp:coreProperties>
</file>