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314-6E38-47B5-B89A-8041A1A1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03B-190B-4962-AA5D-79FBB0EE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29C-C76C-44AD-B0C7-E9BB6969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5B9-ACA4-48D2-AAF0-1BFB5C34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EA42-23B1-4675-BB91-305F68CE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0C78-D4D3-4A24-B06B-80F131CF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8139-CF13-47F1-B674-1BF0CEA8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D4B9-D8D4-4D69-9DD7-23799836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47D2-2B72-47BA-A133-1F0A3C73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431A-097D-488B-8854-6FC43677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21B0-2991-4F37-B611-33BA7E0C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5DD-81CB-46F5-BD95-FCEC725C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34AE-758A-404A-818E-9982D4F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74D3-A77A-40C6-91F5-6F5EB6A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80C7-FC49-4D7B-B02A-FB7EFDFC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B24C-2F6B-457E-A18F-063482B7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23F0-7628-4DB2-B7DB-EB096A58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B42-5388-46F8-A885-5A716EB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213-B2CD-451E-8F71-6646E1A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B15-63D4-4179-B904-B3BE7951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2CC-1EE4-484B-9183-53C108B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56E-D2DB-419F-87AC-303993F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964-E3ED-4604-B270-B93B132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93A-20A0-42C3-BA68-6B4B94A0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3F4-4E1E-4009-86CA-C44D250D0A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E34F-87DD-48BD-BAF9-0C7F2361B6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Zásadní rozdíl na začátek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42712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 R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sou stanoveny vzdělávací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ob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v ŠV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znikají na základě vzdělávacích oborů jednotlivé vyučovací </a:t>
            </a:r>
            <a:r>
              <a:rPr b="1" lang="en-US" sz="2800" spc="-1" strike="noStrike">
                <a:solidFill>
                  <a:srgbClr val="e92412"/>
                </a:solidFill>
                <a:latin typeface="Verdana"/>
              </a:rPr>
              <a:t>předmě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tožné s obor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ahrnující více cel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ajedno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integr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zahrnující kromě jednoho oboru i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lš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části jiných oborů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tegrace téma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692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Verdana"/>
              </a:rPr>
              <a:t>Učební osnovy v Š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8C2-ABCB-41B5-89E8-A5A5A948B0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truktura učebních osnov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42760"/>
            <a:ext cx="822960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áze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rakteristik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zdělávací obsa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yučovacíh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2AC-ACE3-47B1-A670-5953DD71F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obsahové, časové a organizační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ymezení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jakých vzd. oborů, příp. průřezových témat je předmět utvoř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řednostňované formy rea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časové dotace, roční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kde se předmět realizuje, zda se žáci dělí do skupin ap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2FB-758B-4065-916C-942C2EF653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Charakteristika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yučovacího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476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výchovné a vzdělávací strateg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olečně upřednostňované postupy, metody a formy práce (příp. aktivity, příležitosti, pravidla), které povedou v daném předmětu k utváření a rozvíjení klíčových kompetencí žá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rozpracovávány n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úrovni vyučovacího předmět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ycházejí z výchovných a vzdělávacích strategií popisovaných na úrovni ško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 každé klíčové kompetenci zvláš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nebo mohou být formulová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 více kompetencím najedn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ou ve výuc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platňovány všemi učiteli daného vyučovacího předmě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334-D141-4A98-98FE-28D70811D8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Výchovné a vzdělávací strategie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ůležitý rozdí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so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tupy –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, pomocí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jakých prostředků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hce učitel rozvíjet klíčové kompetence žák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ie </a:t>
            </a:r>
            <a:r>
              <a:rPr b="0" lang="en-US" sz="3200" spc="-1" strike="noStrike">
                <a:solidFill>
                  <a:srgbClr val="e92412"/>
                </a:solidFill>
                <a:latin typeface="Verdana"/>
              </a:rPr>
              <a:t>nejsou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íle, rozpracované klíčové kompetence nebo očekávané výstupy – čeho chceme u žáků rozvíj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FA2-2314-4AA1-86EF-1103838F5B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Vzdělávací obsah předmět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ce očekávaných výstupů do ročníků nebo delších časových úse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ýběr a přiřazení uč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atické okruhy průřezových témat (propojené s výstupy/učivem), konkretizace činností a námětů výu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íp. mezipředmětové souvislosti, poznám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332-E361-4AEE-A779-A784095104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5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Nejběžnější způsob zpracování – tab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19040" y="923760"/>
          <a:ext cx="8353440" cy="5543640"/>
        </p:xfrm>
        <a:graphic>
          <a:graphicData uri="http://schemas.openxmlformats.org/drawingml/2006/table">
            <a:tbl>
              <a:tblPr/>
              <a:tblGrid>
                <a:gridCol w="2054160"/>
                <a:gridCol w="2054520"/>
                <a:gridCol w="2276280"/>
                <a:gridCol w="1968480"/>
              </a:tblGrid>
              <a:tr h="522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vyučovacího předmě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up rozpracova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zformulovaný pro daný ročník, popřípadě delší časový úsek - na základě distrib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čekávaného výstupu/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 RVP Z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předmě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ivo začleněné do ročníku a rozprac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 vazbě na d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kretizov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atické okruhy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ovan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řezového té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tematické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ruhu, námět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innosti, případ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rozprac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lší údaj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např.: přesahy a vazb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známky at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jádření vztah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azeb k dalš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ů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projektům ap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DB4-1792-48BA-ABAB-0CEB576766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alší zásady při rozpracování vzdělávacího obsahu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 formulování výstupů se užívají „aktivní slovesa“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žák) jmenuje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vede, popíše, vysvětlí, zhodnotí, porovná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nování do delších časových úseků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tomto případě musí být minimálně jedn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 položek (učivo, nebo očekávané výstupy) distribuovány do roč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NDr. Jan Maršák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-mail: jmarsak@sezna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6EB-293E-4080-8C10-A9005C798B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7:16:09Z</dcterms:created>
  <dc:creator>Hucinova</dc:creator>
  <dc:description/>
  <dc:language>en-US</dc:language>
  <cp:lastModifiedBy>Pavlík</cp:lastModifiedBy>
  <dcterms:modified xsi:type="dcterms:W3CDTF">2006-05-10T17:27:26Z</dcterms:modified>
  <cp:revision>30</cp:revision>
  <dc:subject/>
  <dc:title>Učební osnovy v ŠVP</dc:title>
</cp:coreProperties>
</file>