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B407-8592-4AC1-BAF6-DF08F2B6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67C-2737-47C3-B8B6-886E244C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456-7C46-4138-8EBA-2EE97B3A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7C9-F5CA-4D82-BEA0-A5D927D3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30B7-F9A6-47DD-943D-C4B15B44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EE54-E14E-489E-829D-4798362B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4745-1E11-472A-83CC-F768A11F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3290-F16A-4AED-AA4A-F7974667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EFD4-E205-4A15-B79A-F81B357D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0203-300F-4B9B-8293-B3296773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750E-814E-46B9-AD14-1D987C6C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FB9-EA23-4B52-AFB0-68D30831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A310-D709-418A-9E4E-C659FE58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576A-AD08-467B-AA50-D5CF4456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0C12-EEAB-4EAE-84CA-D1213E96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1EEA-F564-41E0-A68C-E20241E9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FA0D-5A3C-4881-9D00-DCFA4B70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AC5-DC8A-4B8C-934B-FB714412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210-8360-4CE5-97D0-303B84A9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9DE4-C8CD-486D-8EBD-ADCB56DC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FB3-CD30-420A-A685-248F4FCA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E6F-DCF5-43E8-9CB8-42FEA133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61F-FA44-4549-A197-0F9EF6E2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387-8E84-4BCB-9436-E23B3302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A85C-D30D-4661-BA7E-2BCF79FFF6D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0335-367C-4296-962E-88703C43603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Zásadní rozdíl na začátek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42712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 RV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jsou stanoveny vzdělávací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ob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412"/>
                </a:solidFill>
                <a:latin typeface="Verdana"/>
              </a:rPr>
              <a:t>v ŠV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znikají na základě vzdělávacích oborů jednotlivé vyučovací </a:t>
            </a:r>
            <a:r>
              <a:rPr b="1" lang="en-US" sz="2800" spc="-1" strike="noStrike">
                <a:solidFill>
                  <a:srgbClr val="e92412"/>
                </a:solidFill>
                <a:latin typeface="Verdana"/>
              </a:rPr>
              <a:t>předmě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tožné s obor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ahrnující více celých oborů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ajednou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integra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zahrnující kromě jednoho oboru i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alš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části jiných oborů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integrace téma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6922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Verdana"/>
              </a:rPr>
              <a:t>Učební osnovy v ŠV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7E2-466A-493E-BDAF-75906FAE9A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truktura učebních osnov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42760"/>
            <a:ext cx="822960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áze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harakteristik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yučovacího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zdělávací obsa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yučovacího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A67-FC7C-4E7D-B42F-5C3DCAE465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Charakteristika 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vyučovacího předmět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 obsahové, časové a organizační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ymezení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 jakých vzd. oborů, příp. průřezových témat je předmět utvoř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řednostňované formy realiz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časové dotace, roční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íp. kde se předmět realizuje, zda se žáci dělí do skupin apo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C608-8C3D-4258-857E-20C332F60C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Charakteristika 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vyučovacího předmět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3476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výchovné a vzdělávací strateg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polečně upřednostňované postupy, metody a formy práce (příp. aktivity, příležitosti, pravidla), které povedou v daném předmětu k utváření a rozvíjení klíčových kompetencí žá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ou rozpracovávány n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úrovni vyučovacího předmětu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ycházejí z výchovných a vzdělávacích strategií popisovaných na úrovni ško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ou formulován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 každé klíčové kompetenci zvlášť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nebo mohou být formulován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 více kompetencím najedn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ou ve výuc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platňovány všemi učiteli daného vyučovacího předmě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B72-53A2-45C0-A217-2035E13A71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Výchovné a vzdělávací strategie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ůležitý rozdí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ategie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jsou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ostupy –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jak, pomocí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jakých prostředků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hce učitel rozvíjet klíčové kompetence žák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ategie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nejsou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íle, rozpracované klíčové kompetence nebo očekávané výstupy – čeho chceme u žáků rozvíj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77A-ABD3-490F-A2EF-50051A4508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Vzdělávací obsah předmět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ribuce očekávaných výstupů do ročníků nebo delších časových úse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ýběr a přiřazení uči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atické okruhy průřezových témat (propojené s výstupy/učivem), konkretizace činností a námětů výu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íp. mezipředmětové souvislosti, poznám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C25-4CCE-42EE-8285-0306062E90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8252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Nejběžnější způsob zpracování – tabul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19040" y="923760"/>
          <a:ext cx="8353440" cy="5543640"/>
        </p:xfrm>
        <a:graphic>
          <a:graphicData uri="http://schemas.openxmlformats.org/drawingml/2006/table">
            <a:tbl>
              <a:tblPr/>
              <a:tblGrid>
                <a:gridCol w="2054160"/>
                <a:gridCol w="2054520"/>
                <a:gridCol w="2276280"/>
                <a:gridCol w="1968480"/>
              </a:tblGrid>
              <a:tr h="522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vyučovacího předmě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ýstup předmě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ýstup rozpracova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zformulovaný pro daný ročník, popřípadě delší časový úsek - na základě distribu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rozpraco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čekávaného výstupu/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 RVP Z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ivo předmě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ivo začleněné do ročníku a rozpracova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 vazbě na d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nkretizova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atické okruhy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ované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ůřezového tém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tematické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ruhu, námět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innosti, případn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lší rozpraco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lší údaj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např.: přesahy a vazb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známky at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jádření vztah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vazeb k další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ředmětů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projektům apo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EC3-7682-4180-BEC3-C43F2DFDA3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Další zásady při rozpracování vzdělávacího obsah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i formulování výstupů se užívají „aktivní slovesa“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žák) jmenuje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vede, popíše, vysvětlí, zhodnotí, porovná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snování do delších časových úseků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tomto případě musí být minimálně jedn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 položek (učivo, nebo očekávané výstupy) distribuovány do roční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39272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NDr. Jan Maršák, C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-mail: jmarsak@seznam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B30-6D85-4D88-954F-09F1186DA9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7:16:09Z</dcterms:created>
  <dc:creator>Hucinova</dc:creator>
  <dc:description/>
  <dc:language>en-US</dc:language>
  <cp:lastModifiedBy>Pavlík</cp:lastModifiedBy>
  <dcterms:modified xsi:type="dcterms:W3CDTF">2006-05-10T17:27:26Z</dcterms:modified>
  <cp:revision>30</cp:revision>
  <dc:subject/>
  <dc:title>Učební osnovy v ŠVP</dc:title>
</cp:coreProperties>
</file>