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8AD-F084-43D0-9017-F162F25C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E5F-8364-46C0-B228-7BB67A8C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DBC-AF4B-4C9E-A02D-EEFA38ED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CDD-80D0-4F5F-8F29-DF924E51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8B5C-3F12-4738-B9FD-7141712E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B34B-BE91-47E4-9568-C6AE311A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1A98-F2F2-4A7F-8253-3C76CC1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278-CB08-47D7-9734-3BE3F3C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DF99-EBEB-40D2-A255-AA2EB89F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5084-9807-40D8-AA3A-58877A1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517-329F-424F-B4DA-6627834D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5CA-9294-4C17-82CC-28C60EB5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22B7-795E-4D45-9160-69FD8CC4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4F9A-73FA-49D5-BB1C-84AEEA9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6762-EC23-4B91-A83B-19D4BB0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5732-E6E6-4CF6-95E1-A0157A2E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DB87-0293-4226-A8F6-52D01ACF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FB3-48F2-48B5-8B09-64D4E53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1E6-C8CD-4A3E-9855-F5BAF8D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BDA-040E-45DD-9387-3FB1C519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780-A710-49B5-AC76-1E6E8BB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D3F-2D25-41F0-B069-F7F2100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503-EE53-4DBB-92DB-80D336C0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8E4-488D-49D4-87E9-F097F02A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500D-4E39-468C-B79F-F698024C70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0F4-63DD-4DF9-882E-E0D5285591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Zásadní rozdíl na začáte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42712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 R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sou stanoveny vzdělávací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ob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v Š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znikají na základě vzdělávacích oborů jednotlivé vyučovací </a:t>
            </a: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předmě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tožné s obor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ahrnující více cel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ajedno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integr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zahrnující kromě jednoho oboru 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lš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části jin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tegrace téma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69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Verdana"/>
              </a:rPr>
              <a:t>Učební osnovy v Š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421-94C5-4C79-A6E4-3F0D0E4140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truktura učebních osnov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áze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rakteristi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zdělávací obsa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603-F14F-404F-9BD8-524FE81AC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obsahové, časové a organizační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ymezení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jakých vzd. oborů, příp. průřezových témat je předmět utvoř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řednostňované formy rea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časové dotace, roční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kde se předmět realizuje, zda se žáci dělí do skupin ap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6F4-2794-4952-A2E2-DE5D1E1C1C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47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výchovné a vzdělávací strateg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olečně upřednostňované postupy, metody a formy práce (příp. aktivity, příležitosti, pravidla), které povedou v daném předmětu k utváření a rozvíjení klíčových kompetencí žá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rozpracovávány n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úrovni vyučovacího předmět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ycházejí z výchovných a vzdělávacích strategií popisovaných na úrovni ško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 každé klíčové kompetenci zvláš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nebo mohou být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 více kompetencím najedn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ve výuc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platňovány všemi učiteli daného vyučovacího předmě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63D-4DE7-45FA-8620-0CECC6033E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ýchovné a vzdělávací strategi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ůležitý rozdí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so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tupy –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, pomocí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ých prostředků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hce učitel rozvíjet klíčové kompetence žák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nejsou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íle, rozpracované klíčové kompetence nebo očekávané výstupy – čeho chceme u žáků rozvíj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F93-B66D-4DA5-B718-A4FB10EA7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Vzdělávací obsah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ce očekávaných výstupů do ročníků nebo delších časových úse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ýběr a přiřazení uč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atické okruhy průřezových témat (propojené s výstupy/učivem), konkretizace činností a námětů výu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mezipředmětové souvislosti, poznám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D44-7336-41AA-B61D-E98E05AEE7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5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Nejběžnější způsob zpracování – tab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19040" y="923760"/>
          <a:ext cx="8353440" cy="5543640"/>
        </p:xfrm>
        <a:graphic>
          <a:graphicData uri="http://schemas.openxmlformats.org/drawingml/2006/table">
            <a:tbl>
              <a:tblPr/>
              <a:tblGrid>
                <a:gridCol w="2054160"/>
                <a:gridCol w="2054520"/>
                <a:gridCol w="2276280"/>
                <a:gridCol w="1968480"/>
              </a:tblGrid>
              <a:tr h="522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vyučovacího předmě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rozpracova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zformulovaný pro daný ročník, popřípadě delší časový úsek - na základě distrib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čekávaného výstupu/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RVP 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začleněné do ročníku a rozprac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 vazbě na d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kretiz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atické okruhy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ovan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řezového té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tematick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ruhu, námět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innosti, případ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údaj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např.: přesahy a vazb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známky at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jádření vztah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azeb k dalš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projektům ap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3CD-7A6E-403C-8CE0-16656C032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alší zásady při rozpracování vzdělávacího obsah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 formulování výstupů se užívají „aktivní slovesa“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žák) jmenuje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vede, popíše, vysvětlí, zhodnotí, porovná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ání do delších časových úseků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tomto případě musí být minimálně jed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položek (učivo, nebo očekávané výstupy) distribuovány do roč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NDr. Jan Maršák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-mail: jmarsak@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F4F-872E-453B-A9E4-2AD3BBB6DD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7:16:09Z</dcterms:created>
  <dc:creator>Hucinova</dc:creator>
  <dc:description/>
  <dc:language>en-US</dc:language>
  <cp:lastModifiedBy>Pavlík</cp:lastModifiedBy>
  <dcterms:modified xsi:type="dcterms:W3CDTF">2006-05-10T17:27:26Z</dcterms:modified>
  <cp:revision>30</cp:revision>
  <dc:subject/>
  <dc:title>Učební osnovy v ŠVP</dc:title>
</cp:coreProperties>
</file>