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84A7-F19A-4368-B584-BF314369B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AAA7-70D5-4925-A77F-889001C0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2CC3-891C-4ED7-86D3-14CA10D99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5C6D-2DCB-4E0E-BECE-03C3C94B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25CB-7639-4060-8056-88A74D3F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38D1-ADDB-4ADA-8E8F-50FC9ACF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E8F7-4CD5-49C0-A70F-636A9654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BFE9-A562-4F9C-A08E-2C616176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DDB4-0B2E-4B98-B118-C1ED891B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2DEE-31FB-44AD-8FCB-1AF5B553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07B0-8D5B-41B8-B7BD-25B35A59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78B8-8CBF-4FEE-A91B-FAA319DD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2AC0-D2F4-4565-B2C0-D9BE4142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A9EF-1572-4856-9051-2FFE9B48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C95A-BA9E-4E1C-949E-B9F148D3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B02F-49B3-4C5B-AB4A-E504A9C26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E5E8-81AE-41BD-BA80-9C6E254B5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CB70-3356-46CD-A0B3-7FE5EBF3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1A11-5F52-4EC4-9D63-E2CD539B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130B-C188-45B7-8CE9-0C643BE2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0821-0259-4199-9650-B7207588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703A-95C9-4B92-8DCC-2B7AB5E1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A544-F3E2-4172-A033-FB1E20B2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21BC-98F0-410B-BDED-8072DB17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FA31-B814-4365-8C45-CF533595D28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E7C1-3F0E-42F5-B6F0-673033E6B63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628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Zásadní rozdíl na začátek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42712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v RVP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jsou stanoveny vzdělávací 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ob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2412"/>
                </a:solidFill>
                <a:latin typeface="Verdana"/>
              </a:rPr>
              <a:t>v ŠVP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vznikají na základě vzdělávacích oborů jednotlivé vyučovací </a:t>
            </a:r>
            <a:r>
              <a:rPr b="1" lang="en-US" sz="2800" spc="-1" strike="noStrike">
                <a:solidFill>
                  <a:srgbClr val="e92412"/>
                </a:solidFill>
                <a:latin typeface="Verdana"/>
              </a:rPr>
              <a:t>předmě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otožné s obor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zahrnující více celých oborů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najednou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integra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zahrnující kromě jednoho oboru i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alší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části jiných oborů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integrace téma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69228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Verdana"/>
              </a:rPr>
              <a:t>Učební osnovy v ŠV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3D6D-1858-4457-A601-7DD9AA05E9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Struktura učebních osnov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42760"/>
            <a:ext cx="8229600" cy="30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ázev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ředmět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harakteristik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vyučovacího předmět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zdělávací obsa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vyučovacího předmět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17AD-0F12-4138-8F27-954B075794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Charakteristika </a:t>
            </a:r>
            <a:br>
              <a:rPr sz="4000"/>
            </a:b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vyučovacího předmětu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 obsahové, časové a organizační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ymezení předmět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 jakých vzd. oborů, příp. průřezových témat je předmět utvoř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řednostňované formy realiz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časové dotace, ročník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říp. kde se předmět realizuje, zda se žáci dělí do skupin apo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0739-46FB-4D5B-BAE3-8F2B71E3B8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Charakteristika </a:t>
            </a:r>
            <a:br>
              <a:rPr sz="4000"/>
            </a:b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vyučovacího předmětu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34760"/>
            <a:ext cx="8686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 výchovné a vzdělávací strateg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polečně upřednostňované postupy, metody a formy práce (příp. aktivity, příležitosti, pravidla), které povedou v daném předmětu k utváření a rozvíjení klíčových kompetencí žák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sou rozpracovávány n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úrovni vyučovacího předmětu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vycházejí z výchovných a vzdělávacích strategií popisovaných na úrovni ško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sou formulován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e každé klíčové kompetenci zvlášť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nebo mohou být formulován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 více kompetencím najedno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sou ve výuc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platňovány všemi učiteli daného vyučovacího předmět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6CFB-0350-41CF-85B5-943EA97033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Výchovné a vzdělávací strategie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ůležitý rozdíl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rategie </a:t>
            </a:r>
            <a:r>
              <a:rPr b="0" lang="en-US" sz="3200" spc="-1" strike="noStrike">
                <a:solidFill>
                  <a:srgbClr val="e92412"/>
                </a:solidFill>
                <a:latin typeface="Verdana"/>
              </a:rPr>
              <a:t>jsou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ostupy – </a:t>
            </a:r>
            <a:r>
              <a:rPr b="0" lang="en-US" sz="3200" spc="-1" strike="noStrike">
                <a:solidFill>
                  <a:srgbClr val="e92412"/>
                </a:solidFill>
                <a:latin typeface="Verdana"/>
              </a:rPr>
              <a:t>jak, pomocí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92412"/>
                </a:solidFill>
                <a:latin typeface="Verdana"/>
              </a:rPr>
              <a:t>jakých prostředků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chce učitel rozvíjet klíčové kompetence žáků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rategie </a:t>
            </a:r>
            <a:r>
              <a:rPr b="0" lang="en-US" sz="3200" spc="-1" strike="noStrike">
                <a:solidFill>
                  <a:srgbClr val="e92412"/>
                </a:solidFill>
                <a:latin typeface="Verdana"/>
              </a:rPr>
              <a:t>nejsou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íle, rozpracované klíčové kompetence nebo očekávané výstupy – čeho chceme u žáků rozvíj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2378-CFC3-49DF-BF5E-CA39950646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Vzdělávací obsah předmětu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tribuce očekávaných výstupů do ročníků nebo delších časových úsek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ýběr a přiřazení uči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matické okruhy průřezových témat (propojené s výstupy/učivem), konkretizace činností a námětů výuk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říp. mezipředmětové souvislosti, poznámk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8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B5F7-6928-45AD-9941-285C6FB450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8252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Nejběžnější způsob zpracování – tabul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19040" y="923760"/>
          <a:ext cx="8353440" cy="5543640"/>
        </p:xfrm>
        <a:graphic>
          <a:graphicData uri="http://schemas.openxmlformats.org/drawingml/2006/table">
            <a:tbl>
              <a:tblPr/>
              <a:tblGrid>
                <a:gridCol w="2054160"/>
                <a:gridCol w="2054520"/>
                <a:gridCol w="2276280"/>
                <a:gridCol w="1968480"/>
              </a:tblGrid>
              <a:tr h="522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ázev vyučovacího předmě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60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ýstup předmě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ýstup rozpracovan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zformulovaný pro daný ročník, popřípadě delší časový úsek - na základě distribu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rozpracová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čekávaného výstupu/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 RVP Z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čivo předmě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čivo začleněné do ročníku a rozpracovan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 vazbě na daný výst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onkretizovan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atické okruhy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lizované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ůřezového téma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ázev tematické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kruhu, náměty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činnosti, případn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lší rozpracová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lší údaj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např.: přesahy a vazby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známky at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yjádření vztah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vazeb k další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ředmětů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projektům apo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896E-FA8C-4C47-80AE-25DC90AD4D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Další zásady při rozpracování vzdělávacího obsahu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ři formulování výstupů se užívají „aktivní slovesa“ –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(žák) jmenuje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uvede, popíše, vysvětlí, zhodnotí, porovná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snování do delších časových úseků –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 tomto případě musí být minimálně jedn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 položek (učivo, nebo očekávané výstupy) distribuovány do ročník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4392720" y="5805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RNDr. Jan Maršák, CS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E-mail: jmarsak@seznam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2101-5B75-47C8-8DED-3471D64757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07:16:09Z</dcterms:created>
  <dc:creator>Hucinova</dc:creator>
  <dc:description/>
  <dc:language>en-US</dc:language>
  <cp:lastModifiedBy>Pavlík</cp:lastModifiedBy>
  <dcterms:modified xsi:type="dcterms:W3CDTF">2006-05-10T17:27:26Z</dcterms:modified>
  <cp:revision>30</cp:revision>
  <dc:subject/>
  <dc:title>Učební osnovy v ŠVP</dc:title>
</cp:coreProperties>
</file>