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6104-C193-4C85-BA08-055DB03B7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A290-4B2C-4B3A-98EC-13706CEDB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C6CA-80EE-4382-9B3D-DA1CAD319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BCDF-0ED3-4E8C-9F50-0764E3AE2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F80C-BE01-4EA3-9B6C-4186B0362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3127-875E-4584-8C0E-B6E2383D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CC2D-A1F6-486D-8237-F28DBA7B3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87C5-389B-40FD-9344-3DED30BAD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A8F6-B70A-46F3-8233-10C0763F0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B295-736B-48CA-BC07-C95DC200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CEA7-FAE0-4B75-AE19-608E8BF8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43EE-198B-4FC9-82B3-0BA288C1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DC22E-EDC9-42FF-83D5-BF272437F8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vaclav.pumpr@centrum.cz" TargetMode="External"/><Relationship Id="rId2" Type="http://schemas.openxmlformats.org/officeDocument/2006/relationships/hyperlink" Target="mailto:vaclav.pumpr@centrum.cz" TargetMode="External"/><Relationship Id="rId3" Type="http://schemas.openxmlformats.org/officeDocument/2006/relationships/hyperlink" Target="mailto:vaclav.pumpr@centrum.cz" TargetMode="External"/><Relationship Id="rId4" Type="http://schemas.openxmlformats.org/officeDocument/2006/relationships/hyperlink" Target="mailto:vaclav.pumpr@centrum.cz" TargetMode="External"/><Relationship Id="rId5" Type="http://schemas.openxmlformats.org/officeDocument/2006/relationships/hyperlink" Target="mailto:vaclav.pumpr@centrum.cz" TargetMode="External"/><Relationship Id="rId6" Type="http://schemas.openxmlformats.org/officeDocument/2006/relationships/hyperlink" Target="mailto:pavel.benes@pedf.cuni.cz" TargetMode="External"/><Relationship Id="rId7" Type="http://schemas.openxmlformats.org/officeDocument/2006/relationships/hyperlink" Target="mailto:michaela.fryzkova@centrum.cz" TargetMode="External"/><Relationship Id="rId8" Type="http://schemas.openxmlformats.org/officeDocument/2006/relationships/hyperlink" Target="mailto:michaela.fryzkova@centrum.cz" TargetMode="External"/><Relationship Id="rId9" Type="http://schemas.openxmlformats.org/officeDocument/2006/relationships/hyperlink" Target="mailto:michaela.fryzkova@centrum.cz" TargetMode="External"/><Relationship Id="rId10" Type="http://schemas.openxmlformats.org/officeDocument/2006/relationships/hyperlink" Target="mailto:michaela.fryzkova@centrum.cz" TargetMode="External"/><Relationship Id="rId11" Type="http://schemas.openxmlformats.org/officeDocument/2006/relationships/hyperlink" Target="mailto:michaela.fryzkova@centrum.cz" TargetMode="External"/><Relationship Id="rId1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rketing a vzdělá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076640"/>
            <a:ext cx="9144000" cy="27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542880"/>
                <a:tab algn="l" pos="2771640"/>
                <a:tab algn="l" pos="4743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hDr. Václav Pumpr, CSc.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f. RNDr. Pavel Beneš, CS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542880"/>
                <a:tab algn="l" pos="2771640"/>
                <a:tab algn="l" pos="4743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-mail: 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aclav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.pumpr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@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entrum.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cz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-mail: 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avel.benes@pedf.cuni.cz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542880"/>
                <a:tab algn="l" pos="2771640"/>
                <a:tab algn="l" pos="4743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l.: 420 221 900 278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l.: 420 296 242 4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542880"/>
                <a:tab algn="l" pos="2771640"/>
                <a:tab algn="l" pos="4743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42880"/>
                <a:tab algn="l" pos="2771640"/>
                <a:tab algn="l" pos="4743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542880"/>
                <a:tab algn="l" pos="2771640"/>
                <a:tab algn="l" pos="4743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gr. Michaela Frýzk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542880"/>
                <a:tab algn="l" pos="2771640"/>
                <a:tab algn="l" pos="4743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michaela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.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fryzkova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@centrum.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542880"/>
                <a:tab algn="l" pos="2771640"/>
                <a:tab algn="l" pos="4743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l.: 420 221 951 8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542880"/>
                <a:tab algn="l" pos="2771640"/>
                <a:tab algn="l" pos="4743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542880"/>
                <a:tab algn="l" pos="2771640"/>
                <a:tab algn="l" pos="4743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542880"/>
                <a:tab algn="l" pos="2771640"/>
                <a:tab algn="l" pos="4743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atedra chemie a didaktiky chemie, UK PedF, M.D. Rettigové 4, Prah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ýrobek a market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Z hlediska marketingu se za výrobek považuje vše, co může být na trhu nabízeno a směňováno jako objekt zájmu o uspokojení určité potřeby. Tou může být hmotný statek, služba nebo dokonce myšlenk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zi služby se běžně řadí: servisní, peněžní, řemeslnické, technické, obchodní, zprostředkovatelské, kulturní, sportovní, rehabilitační, doškolovací apo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e zajímavé, že se sem v povědomí většiny lidí neřadí služby zdravotnické a školské (např. základních a středních škol). Přitom jde také o služby, které jsou jen hrazeny z prostředků zdravotních pojišťoven nebo státního rozpočtu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lánování a mark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nes není hlavní výrobní, ale marketingové plánování. Vychází ze (skutečných nebo vyvolaných) potřeb zákazníků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ánování se opírá 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rketingovou situační analýzu </a:t>
            </a:r>
            <a:br>
              <a:rPr sz="22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př. analýza zájmů a potřeb žáků ale i jejich rodič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ulace marketingových cílů </a:t>
            </a:r>
            <a:br>
              <a:rPr sz="22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př. získáme žáky, popř. jejich rodiče pro náš studijní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ovení marketingové strategi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př. stanovení činností pomocí nichž získáme žáky popř. i jejich rodiče pro náš vzdělávací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áděcí program </a:t>
            </a:r>
            <a:br>
              <a:rPr sz="22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př. vypracování podrobného postupu pro získávání žá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lizaci plá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ontrolu výsledků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všimněme si, že zde vůbec není uvažována výroba – v rámci vzdělávání např. tvor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říslušných studijních op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ýroba a marketingová koncepce ve ško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líč k dosahování cílů spočívá v určování potřeb a požadavků spotřebitelů. Při této koncepci marketingu nemusí být jakost produktu chápána jako jediná přednos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nes je trhem (ne sice plnohodnotným) i „souboj“ škol o žáky nebo např. zdravotních zařízení o pacienty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 školní prostředí je vhodné „vybalancovat“ kvalitu vzdělávání s potřebami zákazníků (rodičů a žáků). Bez osvěty je však ve školách za kvalitu mezi (mnoha) rodiči považováno to, co oni poznali, když chodili do školy a ne to, co dnes požaduje pracovní trh i běžný občanský život v dnes významně odlišné společnost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říklad obecných zásad managementu pro realizaci změn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686800" cy="51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ytvoření právního zajišt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ybudování technického zajišt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čanské uvědom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tr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nční zdr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ové předpoklady si např. stanovili v rámci Montrealské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kolu o látkách, které porušují ozonovou vrstvu (1987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rketingový přístup k výu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 algn="ctr">
              <a:spcBef>
                <a:spcPts val="799"/>
              </a:spcBef>
              <a:buNone/>
              <a:tabLst>
                <a:tab algn="l" pos="0"/>
                <a:tab algn="l" pos="530280"/>
                <a:tab algn="l" pos="2773440"/>
                <a:tab algn="l" pos="5826240"/>
                <a:tab algn="l" pos="753588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ědomosti, dovednosti, ale i post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400"/>
              </a:spcBef>
              <a:buNone/>
              <a:tabLst>
                <a:tab algn="l" pos="0"/>
                <a:tab algn="l" pos="530280"/>
                <a:tab algn="l" pos="2773440"/>
                <a:tab algn="l" pos="5826240"/>
                <a:tab algn="l" pos="753588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530280"/>
                <a:tab algn="l" pos="2773440"/>
                <a:tab algn="l" pos="5826240"/>
                <a:tab algn="l" pos="753588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čite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vou činnost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„prodává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" indent="0" algn="ctr">
              <a:spcBef>
                <a:spcPts val="400"/>
              </a:spcBef>
              <a:buNone/>
              <a:tabLst>
                <a:tab algn="l" pos="0"/>
                <a:tab algn="l" pos="530280"/>
                <a:tab algn="l" pos="2773440"/>
                <a:tab algn="l" pos="5826240"/>
                <a:tab algn="l" pos="753588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530280"/>
                <a:tab algn="l" pos="2773440"/>
                <a:tab algn="l" pos="5826240"/>
                <a:tab algn="l" pos="753588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žák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vou činnost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„kupuje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" indent="0" algn="ctr">
              <a:spcBef>
                <a:spcPts val="799"/>
              </a:spcBef>
              <a:buNone/>
              <a:tabLst>
                <a:tab algn="l" pos="0"/>
                <a:tab algn="l" pos="530280"/>
                <a:tab algn="l" pos="2773440"/>
                <a:tab algn="l" pos="5826240"/>
                <a:tab algn="l" pos="753588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30T10:58:20Z</dcterms:created>
  <dc:creator>PEDF</dc:creator>
  <dc:description/>
  <dc:language>en-US</dc:language>
  <cp:lastModifiedBy>xxx</cp:lastModifiedBy>
  <dcterms:modified xsi:type="dcterms:W3CDTF">2007-08-06T11:32:42Z</dcterms:modified>
  <cp:revision>12</cp:revision>
  <dc:subject/>
  <dc:title>Marketingový přístup k výuce</dc:title>
</cp:coreProperties>
</file>