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22B-D60A-4B06-A67B-1D0EB4A4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591-B83D-490D-A2E4-E7D7E567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10C-018B-42C6-BBD4-0F6918A3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9E8-7D2E-4D17-9949-955B2C05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354-9EE8-4A95-BBF4-D100A3CB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22C-DE26-4236-919F-F4EEC70D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FDBB-EE21-4047-B67F-98FC83F0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750-98B4-4EE7-881E-9A8EA9AC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165-72E2-417F-A324-DD69E7ED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884A-0246-407E-9819-84999844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AFC-DE10-4B62-98A7-8FC45A78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256-A3A2-49CD-8334-44BB86DC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F6CA-4472-438E-8AE7-F85EE2D5C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aclav.pumpr@centrum.cz" TargetMode="External"/><Relationship Id="rId2" Type="http://schemas.openxmlformats.org/officeDocument/2006/relationships/hyperlink" Target="mailto:vaclav.pumpr@centrum.cz" TargetMode="External"/><Relationship Id="rId3" Type="http://schemas.openxmlformats.org/officeDocument/2006/relationships/hyperlink" Target="mailto:vaclav.pumpr@centrum.cz" TargetMode="External"/><Relationship Id="rId4" Type="http://schemas.openxmlformats.org/officeDocument/2006/relationships/hyperlink" Target="mailto:vaclav.pumpr@centrum.cz" TargetMode="External"/><Relationship Id="rId5" Type="http://schemas.openxmlformats.org/officeDocument/2006/relationships/hyperlink" Target="mailto:vaclav.pumpr@centrum.cz" TargetMode="External"/><Relationship Id="rId6" Type="http://schemas.openxmlformats.org/officeDocument/2006/relationships/hyperlink" Target="mailto:pavel.benes@pedf.cuni.cz" TargetMode="External"/><Relationship Id="rId7" Type="http://schemas.openxmlformats.org/officeDocument/2006/relationships/hyperlink" Target="mailto:michaela.fryzkova@centrum.cz" TargetMode="External"/><Relationship Id="rId8" Type="http://schemas.openxmlformats.org/officeDocument/2006/relationships/hyperlink" Target="mailto:michaela.fryzkova@centrum.cz" TargetMode="External"/><Relationship Id="rId9" Type="http://schemas.openxmlformats.org/officeDocument/2006/relationships/hyperlink" Target="mailto:michaela.fryzkova@centrum.cz" TargetMode="External"/><Relationship Id="rId10" Type="http://schemas.openxmlformats.org/officeDocument/2006/relationships/hyperlink" Target="mailto:michaela.fryzkova@centrum.cz" TargetMode="External"/><Relationship Id="rId11" Type="http://schemas.openxmlformats.org/officeDocument/2006/relationships/hyperlink" Target="mailto:michaela.fryzkova@centrum.cz" TargetMode="External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 a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hDr. Václav Pumpr, CSc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f. RNDr. Pavel Beneš, C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aclav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pumpr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@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entrum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avel.benes@pedf.cuni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21 900 278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96 242 4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Michaela Frýz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ichael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ryzkov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@centrum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21 951 8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tedra chemie a didaktiky chemie, UK PedF, M.D. Rettigové 4, Prah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ýrobek a marke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 hlediska marketingu se za výrobek považuje vše, co může být na trhu nabízeno a směňováno jako objekt zájmu o uspokojení určité potřeby. Tou může být hmotný statek, služba nebo dokonce myšlenk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zi služby se běžně řadí: servisní, peněžní, řemeslnické, technické, obchodní, zprostředkovatelské, kulturní, sportovní, rehabilitační, doškolovací ap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zajímavé, že se sem v povědomí většiny lidí neřadí služby zdravotnické a školské (např. základních a středních škol). Přitom jde také o služby, které jsou jen hrazeny z prostředků zdravotních pojišťoven nebo státního rozpočt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ánování a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es není hlavní výrobní, ale marketingové plánování. Vychází ze (skutečných nebo vyvolaných) potřeb zákazní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ánování se opírá 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ingovou situační analýzu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analýza zájmů a potřeb žáků ale i jejich rodi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ce marketingových cílů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získáme žáky, popř. jejich rodiče pro náš studijní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marketingové strateg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stanovení činností pomocí nichž získáme žáky popř. i jejich rodiče pro náš vzdělávací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áděcí program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vypracování podrobného postupu pro získávání ž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aci pl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trolu výsledků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všimněme si, že zde vůbec není uvažována výroba – v rámci vzdělávání např. tvor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íslušných studijních op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ýroba a marketingová koncepce ve šk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íč k dosahování cílů spočívá v určování potřeb a požadavků spotřebitelů. Při této koncepci marketingu nemusí být jakost produktu chápána jako jediná předn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es je trhem (ne sice plnohodnotným) i „souboj“ škol o žáky nebo např. zdravotních zařízení o pacien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 školní prostředí je vhodné „vybalancovat“ kvalitu vzdělávání s potřebami zákazníků (rodičů a žáků). Bez osvěty je však ve školách za kvalitu mezi (mnoha) rodiči považováno to, co oni poznali, když chodili do školy a ne to, co dnes požaduje pracovní trh i běžný občanský život v dnes významně odlišné společno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říklad obecných zásad managementu pro realizaci změn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686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tvoření právního za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udování technického za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nské uvědo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ové předpoklady si např. stanovili v rámci Montrealsk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kolu o látkách, které porušují ozonovou vrstvu (1987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ový přístup k výu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 algn="ctr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ědomosti, dovednosti, ale i post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400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čit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ou činnost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prodává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spcBef>
                <a:spcPts val="400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ák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ou činnost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kupuj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0:58:20Z</dcterms:created>
  <dc:creator>PEDF</dc:creator>
  <dc:description/>
  <dc:language>en-US</dc:language>
  <cp:lastModifiedBy>xxx</cp:lastModifiedBy>
  <dcterms:modified xsi:type="dcterms:W3CDTF">2007-08-06T11:32:42Z</dcterms:modified>
  <cp:revision>12</cp:revision>
  <dc:subject/>
  <dc:title>Marketingový přístup k výuce</dc:title>
</cp:coreProperties>
</file>