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839-753F-4F90-8CDC-29D12379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3BA-44D9-4AD5-A675-039879B6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F82-09AE-4039-9679-10FD92FC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E55-EDC6-413E-BA57-01650681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9EB-CB7E-4FD8-AD1F-C9F3B0BD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555-6717-4DE5-BEE0-2DABAE2A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32C-9E9F-408D-9F5F-224592F9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84A-8585-48AE-AF1B-8532C0E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AF5-7DED-42CD-96B2-ACE8CE22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CD5-A640-46F1-9CF9-EC19704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127-DF39-48F5-B13F-AA30793D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D68-24AD-48ED-89BA-50A4A2E8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2A53-4C9A-429E-B80C-FFC1F3360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clav.pumpr@centrum.cz" TargetMode="External"/><Relationship Id="rId2" Type="http://schemas.openxmlformats.org/officeDocument/2006/relationships/hyperlink" Target="mailto:vaclav.pumpr@centrum.cz" TargetMode="External"/><Relationship Id="rId3" Type="http://schemas.openxmlformats.org/officeDocument/2006/relationships/hyperlink" Target="mailto:vaclav.pumpr@centrum.cz" TargetMode="External"/><Relationship Id="rId4" Type="http://schemas.openxmlformats.org/officeDocument/2006/relationships/hyperlink" Target="mailto:vaclav.pumpr@centrum.cz" TargetMode="External"/><Relationship Id="rId5" Type="http://schemas.openxmlformats.org/officeDocument/2006/relationships/hyperlink" Target="mailto:vaclav.pumpr@centrum.cz" TargetMode="External"/><Relationship Id="rId6" Type="http://schemas.openxmlformats.org/officeDocument/2006/relationships/hyperlink" Target="mailto:pavel.benes@pedf.cuni.cz" TargetMode="External"/><Relationship Id="rId7" Type="http://schemas.openxmlformats.org/officeDocument/2006/relationships/hyperlink" Target="mailto:michaela.fryzkova@centrum.cz" TargetMode="External"/><Relationship Id="rId8" Type="http://schemas.openxmlformats.org/officeDocument/2006/relationships/hyperlink" Target="mailto:michaela.fryzkova@centrum.cz" TargetMode="External"/><Relationship Id="rId9" Type="http://schemas.openxmlformats.org/officeDocument/2006/relationships/hyperlink" Target="mailto:michaela.fryzkova@centrum.cz" TargetMode="External"/><Relationship Id="rId10" Type="http://schemas.openxmlformats.org/officeDocument/2006/relationships/hyperlink" Target="mailto:michaela.fryzkova@centrum.cz" TargetMode="External"/><Relationship Id="rId11" Type="http://schemas.openxmlformats.org/officeDocument/2006/relationships/hyperlink" Target="mailto:michaela.fryzkova@centrum.cz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a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Václav Pumpr, CSc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. RNDr. Pavel Beneš,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cla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pump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vel.benes@pedf.c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00 278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96 242 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Michaela Frýz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hael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yzkov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51 8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edra chemie a didaktiky chemie, UK PedF, M.D. Rettigové 4,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robek a mark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hlediska marketingu se za výrobek považuje vše, co může být na trhu nabízeno a směňováno jako objekt zájmu o uspokojení určité potřeby. Tou může být hmotný statek, služba nebo dokonce myšlen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zi služby se běžně řadí: servisní, peněžní, řemeslnické, technické, obchodní, zprostředkovatelské, kulturní, sportovní, rehabilitační, doškolovací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zajímavé, že se sem v povědomí většiny lidí neřadí služby zdravotnické a školské (např. základních a středních škol). Přitom jde také o služby, které jsou jen hrazeny z prostředků zdravotních pojišťoven nebo státního rozpoč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ánování a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es není hlavní výrobní, ale marketingové plánování. Vychází ze (skutečných nebo vyvolaných) potřeb zákazní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ování se opírá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ovou situační analýzu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analýza zájmů a potřeb žáků ale i jejich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ce marketingových cílů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získáme žáky, popř. jejich rodiče pro náš studijn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marketingové strateg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stanovení činností pomocí nichž získáme žáky popř. i jejich rodiče pro náš vzdělávac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ěcí program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vypracování podrobného postupu pro získávání ž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i pl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u výsled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všimněme si, že zde vůbec není uvažována výroba – v rámci vzdělávání např. tvo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íslušných studijních op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ýroba a marketingová koncepce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íč k dosahování cílů spočívá v určování potřeb a požadavků spotřebitelů. Při této koncepci marketingu nemusí být jakost produktu chápána jako jediná předn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es je trhem (ne sice plnohodnotným) i „souboj“ škol o žáky nebo např. zdravotních zařízení o pacien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školní prostředí je vhodné „vybalancovat“ kvalitu vzdělávání s potřebami zákazníků (rodičů a žáků). Bez osvěty je však ve školách za kvalitu mezi (mnoha) rodiči považováno to, co oni poznali, když chodili do školy a ne to, co dnes požaduje pracovní trh i běžný občanský život v dnes významně odlišné společ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říklad obecných zásad managementu pro realizaci změn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686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ení právní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udování technické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ské uvědo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ové předpoklady si např. stanovili v rámci Montreal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kolu o látkách, které porušují ozonovou vrstvu (198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ový přístup k vý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ědomosti, dovednosti, ale i post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prodává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ák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kupuj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0:58:20Z</dcterms:created>
  <dc:creator>PEDF</dc:creator>
  <dc:description/>
  <dc:language>en-US</dc:language>
  <cp:lastModifiedBy>xxx</cp:lastModifiedBy>
  <dcterms:modified xsi:type="dcterms:W3CDTF">2007-08-06T11:32:42Z</dcterms:modified>
  <cp:revision>12</cp:revision>
  <dc:subject/>
  <dc:title>Marketingový přístup k výuce</dc:title>
</cp:coreProperties>
</file>