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FE4A-D976-4B04-83BF-2714B4575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E6CA-3447-475B-8494-4D16A89E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2754-DBB6-4D47-A551-85DE26083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C519-A6D8-4564-A4F2-82E63BF7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57E5-4BC7-48BA-91BF-B8B551D6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9D05-95CC-4D51-B5FE-B31E1A4F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988E-5C5D-49EA-8C80-0D355952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9778-EAE1-4902-BFEA-80743DA3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DA4C-1732-4CA5-90C0-7FDB3804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AF58-62B0-4A04-B64A-405ED46C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C5D0-F499-4FCE-B300-89BB6CA8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9D99-829A-4895-A94C-FFDDD050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B15E-54E8-4064-A970-45F14B899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vaclav.pumpr@centrum.cz" TargetMode="External"/><Relationship Id="rId2" Type="http://schemas.openxmlformats.org/officeDocument/2006/relationships/hyperlink" Target="mailto:vaclav.pumpr@centrum.cz" TargetMode="External"/><Relationship Id="rId3" Type="http://schemas.openxmlformats.org/officeDocument/2006/relationships/hyperlink" Target="mailto:vaclav.pumpr@centrum.cz" TargetMode="External"/><Relationship Id="rId4" Type="http://schemas.openxmlformats.org/officeDocument/2006/relationships/hyperlink" Target="mailto:vaclav.pumpr@centrum.cz" TargetMode="External"/><Relationship Id="rId5" Type="http://schemas.openxmlformats.org/officeDocument/2006/relationships/hyperlink" Target="mailto:vaclav.pumpr@centrum.cz" TargetMode="External"/><Relationship Id="rId6" Type="http://schemas.openxmlformats.org/officeDocument/2006/relationships/hyperlink" Target="mailto:pavel.benes@pedf.cuni.cz" TargetMode="External"/><Relationship Id="rId7" Type="http://schemas.openxmlformats.org/officeDocument/2006/relationships/hyperlink" Target="mailto:michaela.fryzkova@centrum.cz" TargetMode="External"/><Relationship Id="rId8" Type="http://schemas.openxmlformats.org/officeDocument/2006/relationships/hyperlink" Target="mailto:michaela.fryzkova@centrum.cz" TargetMode="External"/><Relationship Id="rId9" Type="http://schemas.openxmlformats.org/officeDocument/2006/relationships/hyperlink" Target="mailto:michaela.fryzkova@centrum.cz" TargetMode="External"/><Relationship Id="rId10" Type="http://schemas.openxmlformats.org/officeDocument/2006/relationships/hyperlink" Target="mailto:michaela.fryzkova@centrum.cz" TargetMode="External"/><Relationship Id="rId11" Type="http://schemas.openxmlformats.org/officeDocument/2006/relationships/hyperlink" Target="mailto:michaela.fryzkova@centrum.cz" TargetMode="External"/><Relationship Id="rId1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rketing a vzdělá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076640"/>
            <a:ext cx="914400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hDr. Václav Pumpr, CSc.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f. RNDr. Pavel Beneš, C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-mail: 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aclav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pumpr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@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entrum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-mail: 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avel.benes@pedf.cuni.c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l.: 420 221 900 278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l.: 420 296 242 4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gr. Michaela Frýz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michaela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fryzkova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@centrum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l.: 420 221 951 8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tedra chemie a didaktiky chemie, UK PedF, M.D. Rettigové 4, Prah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ýrobek a market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 hlediska marketingu se za výrobek považuje vše, co může být na trhu nabízeno a směňováno jako objekt zájmu o uspokojení určité potřeby. Tou může být hmotný statek, služba nebo dokonce myšlenk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zi služby se běžně řadí: servisní, peněžní, řemeslnické, technické, obchodní, zprostředkovatelské, kulturní, sportovní, rehabilitační, doškolovací apo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e zajímavé, že se sem v povědomí většiny lidí neřadí služby zdravotnické a školské (např. základních a středních škol). Přitom jde také o služby, které jsou jen hrazeny z prostředků zdravotních pojišťoven nebo státního rozpočt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ánování a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nes není hlavní výrobní, ale marketingové plánování. Vychází ze (skutečných nebo vyvolaných) potřeb zákazník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ánování se opírá 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ingovou situační analýzu </a:t>
            </a:r>
            <a:br>
              <a:rPr sz="22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př. analýza zájmů a potřeb žáků ale i jejich rodič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ulace marketingových cílů </a:t>
            </a:r>
            <a:br>
              <a:rPr sz="22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př. získáme žáky, popř. jejich rodiče pro náš studijní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ovení marketingové strategi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př. stanovení činností pomocí nichž získáme žáky popř. i jejich rodiče pro náš vzdělávací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áděcí program </a:t>
            </a:r>
            <a:br>
              <a:rPr sz="22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př. vypracování podrobného postupu pro získávání žá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aci plá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ntrolu výsledků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všimněme si, že zde vůbec není uvažována výroba – v rámci vzdělávání např. tvor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říslušných studijních op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ýroba a marketingová koncepce ve šk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líč k dosahování cílů spočívá v určování potřeb a požadavků spotřebitelů. Při této koncepci marketingu nemusí být jakost produktu chápána jako jediná předno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nes je trhem (ne sice plnohodnotným) i „souboj“ škol o žáky nebo např. zdravotních zařízení o pacienty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 školní prostředí je vhodné „vybalancovat“ kvalitu vzdělávání s potřebami zákazníků (rodičů a žáků). Bez osvěty je však ve školách za kvalitu mezi (mnoha) rodiči považováno to, co oni poznali, když chodili do školy a ne to, co dnes požaduje pracovní trh i běžný občanský život v dnes významně odlišné společnost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říklad obecných zásad managementu pro realizaci změn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6868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tvoření právního za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budování technického za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čanské uvědom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r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ční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ové předpoklady si např. stanovili v rámci Montrealské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kolu o látkách, které porušují ozonovou vrstvu (1987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rketingový přístup k výu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 algn="ctr">
              <a:spcBef>
                <a:spcPts val="799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ědomosti, dovednosti, ale i post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400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čite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ou činnost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prodává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ctr">
              <a:spcBef>
                <a:spcPts val="400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žák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ou činnost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kupuje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ctr">
              <a:spcBef>
                <a:spcPts val="799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10:58:20Z</dcterms:created>
  <dc:creator>PEDF</dc:creator>
  <dc:description/>
  <dc:language>en-US</dc:language>
  <cp:lastModifiedBy>xxx</cp:lastModifiedBy>
  <dcterms:modified xsi:type="dcterms:W3CDTF">2007-08-06T11:32:42Z</dcterms:modified>
  <cp:revision>12</cp:revision>
  <dc:subject/>
  <dc:title>Marketingový přístup k výuce</dc:title>
</cp:coreProperties>
</file>