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57FD-14A6-4F10-BCAF-D36718D3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A250-C11E-46D4-93A0-8F9EF67C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E102-C87B-4C47-B6B0-F5FDC571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C007-66AC-4D6A-96E5-87507918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42F-1488-4AE1-8FAC-7ECDD172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0FFE-C59D-494F-B65D-21BA1DC1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685C-BDFF-4D30-B5E0-B589DE20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A55-A583-4E63-ADC8-69E26972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F7B9-5A47-4B94-9E9D-11647196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C93B-88DD-4CE2-94D2-5848E866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AAFB-D381-496E-8B26-B0CC2491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8AA7-18E1-4BA2-8B9B-8268B90F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7DBA-FAC8-4259-BFAD-A9F741ED24C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VP SO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2919-D998-4B0E-879D-BF47A96717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VP a odborné vzdělá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ují RVP pro jednotlivé stupně a směry odborného vzdělávání (je nutno jich vytvořit mnoh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platí pravidla jako pro ostatní RV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átem stanovené a schválené pedagogické dokume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vazné pro všechny školy poskytující střední odborné vzdělávání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tvoří podle nich Š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tevřené dokumenty, které budou po určitém období platnosti nebo podle nutnosti inovov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35BF-6D23-4F38-899B-0DB62C9AF8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íle středního odborného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poznáv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svojovat si nástroje pochopení světa a rozvinout dovednosti k učení 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pracovat a jedn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aučit se tvořivě zasahovat do svého životního (přírodního i společenského)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bý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orozumět vlastní osobnosti a jejímu utváření v souladu s obecně přijímanými morálními hodnota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žít společn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čit se žít s ostatními (umět spolupracovat s ostatními, a moci se tak podílet na životě společnosti, nalézt v ní své mís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5DF9-27F0-40F9-9203-F5AE04E072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mpetence S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Vymezeny jsou tyto kategorie kompetencí absolve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líčové kompe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becně přenositelné a použitelné soubory kvalit osobnosti pro plnohodnotný život (nezávislý na odbornosti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dborné kompe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dvíjejí se od kvalifikačních požadavků na výkon konkrétního povolání a vyjadřují způsobilost absolventa k pracovní činn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74F2-9BB1-49A7-9FF7-1C25BCA97B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íčové kompetence v S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řešení probl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omunikati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personální a soci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občanské a sociální povědom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Kompetence využívat prostředky IKT a pracovat s informac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Kompetence matemat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Kompetence k pracovnímu uplatnění a podnikatelským aktivitá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AEC6-177B-4847-BB59-6661E6AC4E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latnění absol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mezen pro jednotlivé stupně a smě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V RVP G není tato kategorie samostatně vymezena, hovoří se o ní v pojetí a cílech vzdělá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ři zpracování ŠVP je závazné uvést také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rofil absolventa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(informace o odborných a osobnostních kvalitách absolventa a pracovních činnostech, pro které bude připravová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0C4-3C8F-43C2-81E7-18C7D04D70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dělávací oblasti S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zykové vzdělávání a komun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lečenskovědní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írodovědn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matick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tick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zdělávání pro zdr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zdělávání v I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konomick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orné vzdělávání členěné podle obsahových okru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Na rozdíl od RVP je vzdělávání (obory) v rámci oblastí členěny na varianty – vyšší /nižší nároky ob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C43B-71D8-44AE-831E-328122DAEA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ůřezová té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čan v demokratické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lověk a životní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lověk a svět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ční a komunikační techn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Narozdíl vzdělávacích oblastí jsou PT pro všechny obory a stupně stej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5E4-5025-48EF-B630-FF4A8ACB99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e resp. chemické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mezeno v několika variant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něco více konkré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DC96-04AF-467E-95F6-6EDBCFDC9F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4:35:00Z</dcterms:created>
  <dc:creator>Sendy</dc:creator>
  <dc:description/>
  <dc:language>en-US</dc:language>
  <cp:lastModifiedBy>PEDF</cp:lastModifiedBy>
  <dcterms:modified xsi:type="dcterms:W3CDTF">2006-11-22T18:36:16Z</dcterms:modified>
  <cp:revision>10</cp:revision>
  <dc:subject/>
  <dc:title>RVP SOŠ</dc:title>
</cp:coreProperties>
</file>