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CFA-94D1-42B1-ADFF-0E4352C3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C58-A4E5-4BC6-9E06-F1DDF8B6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BF2-67FA-4B70-9E6B-D1EBE839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DB3-C885-4994-B951-390F935F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4B7-BADA-4A0A-B61C-340CE792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55E-2B5B-4D45-B256-238F8FA0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EB9-B639-476E-9167-55C1623A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B50-BD0A-4160-959D-24ABED9F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4F15-660F-445A-9C30-2F64FCF1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B4B-6FE4-49A4-A21C-3AAC16A8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C06-681A-4971-93D6-6D86DB4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1666-39F6-4D8E-82E3-693D0BBC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08F6-DE9F-4584-BBC5-608CFE56C91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VP SO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031-9A89-411E-8D48-6FA00B157A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VP a odborné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ují RVP pro jednotlivé stupně a směry odborného vzdělávání (je nutno jich vytvořit mno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platí pravidla jako pro ostatní RV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átem stanovené a schválené pedagogické dokume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vazné pro všechny školy poskytující střední odborné vzděláván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tvoří podle nich Š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evřené dokumenty, které budou po určitém období platnosti nebo podle nutnosti inovov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B1C-BF22-49B9-B7BF-4665EE16CE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íle středního odborného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pozná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svojovat si nástroje pochopení světa a rozvinout dovednosti k učení 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pracovat a jedn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aučit se tvořivě zasahovat do svého životního (přírodního i společenského)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bý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orozumět vlastní osobnosti a jejímu utváření v souladu s obecně přijímanými morálními hodnota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žít společn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čit se žít s ostatními (umět spolupracovat s ostatními, a moci se tak podílet na životě společnosti, nalézt v ní své mís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87E-1339-4BDD-9995-80264C3341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petence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Vymezeny jsou tyto kategorie kompetencí absolv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líčové kompe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becně přenositelné a použitelné soubory kvalit osobnosti pro plnohodnotný život (nezávislý na odbornosti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borné kompe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dvíjejí se od kvalifikačních požadavků na výkon konkrétního povolání a vyjadřují způsobilost absolventa k pracovní čin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397-78C4-4AAC-ADBB-FE8B7A291C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íčové kompetence v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omunikat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personální a soci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občanské a sociální povědom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využívat prostředky IKT a pracovat s informac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matema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k pracovnímu uplatnění a podnikatelským aktivit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275-85B9-4222-BF9D-94C07E8E59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latnění absol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mezen pro jednotlivé stupně a s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 RVP G není tato kategorie samostatně vymezena, hovoří se o ní v pojetí a cílech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ři zpracování ŠVP je závazné uvést také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ofil absolventa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(informace o odborných a osobnostních kvalitách absolventa a pracovních činnostech, pro které bude připravov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B08-468F-46A5-81A7-400C163A75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dělávací oblasti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zykové vzdělávání a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čenskovědní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rodovědn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at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t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dělávání pro zdr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dělávání v I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onom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orné vzdělávání členěné podle obsahových okru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a rozdíl od RVP je vzdělávání (obory) v rámci oblastí členěny na varianty – vyšší /nižší nároky ob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81F-F3AD-42F8-B440-3FDB93D1B0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řezová té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n v demokratické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lověk a život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lověk a svět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a komunikační 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Narozdíl vzdělávacích oblastí jsou PT pro všechny obory a stupně stej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0F0-F042-48A6-8FF8-2E096B3E25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e resp. chemické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mezeno v několika variant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něco více konkré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D55-1C00-46B5-8108-91D4909365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4:35:00Z</dcterms:created>
  <dc:creator>Sendy</dc:creator>
  <dc:description/>
  <dc:language>en-US</dc:language>
  <cp:lastModifiedBy>PEDF</cp:lastModifiedBy>
  <dcterms:modified xsi:type="dcterms:W3CDTF">2006-11-22T18:36:16Z</dcterms:modified>
  <cp:revision>10</cp:revision>
  <dc:subject/>
  <dc:title>RVP SOŠ</dc:title>
</cp:coreProperties>
</file>