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910-1805-4DC7-ACBC-0D1A288A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50D-B0E7-4D1F-AA0D-4D4BA868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DCC-7C85-4937-B903-2CA0453B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98ED-6202-436B-9018-BD313602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C64-3E5F-419D-BC1B-1795ED52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D08-E386-49F1-A004-3E6433C1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A68-A065-4801-A54E-D6B71ED0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549-ABD6-4145-BCEF-1619A065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E76-AE35-4011-BA8F-0D91DE7F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D2E-2990-445B-B483-6C790531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6A2-CCFA-4F38-9B1D-43B0055B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7DC-DFB9-464A-AEDE-7628A388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16B4-E831-4E7F-BF7B-7D4C66ABB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:/Prezentace/CHEMIE%20RVP%20G.doc" TargetMode="External"/><Relationship Id="rId2" Type="http://schemas.openxmlformats.org/officeDocument/2006/relationships/hyperlink" Target="file:///E:/Prezentace/CHEMIE%20RVP%20G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P G, RVP G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701-4D0D-4A91-A8A1-82AA1FE9A7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P a všeobecné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Gymnázia osmi a šestiletá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VP ZV (s některými úpravami) a RVP G (RVP G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Gymnázia čtyřletá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VP G (RVP G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2E8-0AAE-4F96-BB2F-68E1A9BFE5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íle gymnaziálního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avit žáky klíčovými kompetencemi na úrovni, kterou předpokládá RVP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avit žáky širokým vzdělanostním základem na úrovni, kterou popisuje RVP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pravit žáky na další studium a profesní živ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5CD-AE7D-4F45-870F-A8AD18F253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líčové kompe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RVP G stanovuje celkem 5 K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omunikati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sociální a person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občan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a rozdíl od RVP ZV nemá kompetenci praco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(odkazy s ohledem na další profesní život jsou součástí ostatních K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2E6-550F-409F-9794-5C115E008B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dělávací obla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Jazyk a jazyková komunik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Matematika a její aplik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příro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svět prá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Umění a kultu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zdrav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Informační a komunikační technolog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990000"/>
                </a:solidFill>
                <a:latin typeface="Arial"/>
              </a:rPr>
              <a:t>(v oblasti Umění a kultura volí žák jen Hv nebo Vv, závazný je tematický okruh Umělecká tvorba a komunikac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74A6-56CB-4E12-878F-449508EA4F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ůřezová té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Vymezuje celkem 5 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obnostní a soci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kultur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chova k myšlení v evropských a globálních souvislos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(na rozdíl od RVP ZV není zařazena Výchova demokratického obča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0AB-38FB-4504-844D-1BEA3DE352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ělávací obsah vzdělávacího oboru je nastaven velmi obecně, umožňuje tak různé pojetí ve výuce che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humanitní/přírodovědné zaměření gymnázi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CHEMIE RVP G.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496-B267-4E23-9F66-712F310B8C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8:02:43Z</dcterms:created>
  <dc:creator>Sendy</dc:creator>
  <dc:description/>
  <dc:language>en-US</dc:language>
  <cp:lastModifiedBy>PEDF</cp:lastModifiedBy>
  <dcterms:modified xsi:type="dcterms:W3CDTF">2006-11-22T18:40:10Z</dcterms:modified>
  <cp:revision>8</cp:revision>
  <dc:subject/>
  <dc:title>RVP G, RVP GSP</dc:title>
</cp:coreProperties>
</file>