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917-341A-4C7F-B543-20FDEF54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C14-A839-433E-BF72-D30781DF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F13-99E8-49B0-A448-39AAB614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7EF-3B7A-4CD9-BF30-4D533491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7E2-B97B-4409-814C-7D0F52C9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FA4-8344-4237-A98A-DB953AB1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E62-3971-44FD-BFE7-AE67C58A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0D3-A2AE-45B6-8D48-7A02B607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39B-1C65-4395-8090-9FB3FF01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4CF-C017-456D-9C97-904BF8E9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2B9-F5B8-4623-BDC7-DBE1046C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86B-3AA2-46A1-916D-A1034FF2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91C8-A910-484C-B3AB-1ABC93907F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SO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A62-2191-4427-8218-E45E6462B4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a odbor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ují RVP pro jednotlivé stupně a směry odborného vzdělávání (je nutno jich vytvořit mno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platí pravidla jako pro ostatní RV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tem stanovené a schválené pedagogické dokum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vazné pro všechny školy poskytující střední odborné vzděláván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tvoří podle nich Š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evřené dokumenty, které budou po určitém období platnosti nebo podle nutnosti inovo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495-9AE6-4D14-8B64-3932546C05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íle středního odborné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ozná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svojovat si nástroje pochopení světa a rozvinout dovednosti k učení 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racovat a jedn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aučit se tvořivě zasahovat do svého životního (přírodního i společenského)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bý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orozumět vlastní osobnosti a jejímu utváření v souladu s obecně přijímanými morálními hodnot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žít společn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čit se žít s ostatními (umět spolupracovat s ostatními, a moci se tak podílet na životě společnosti, nalézt v ní své mís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B98-A3F6-4448-BAE6-F26512BF8A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petence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Vymezeny jsou tyto kategorie kompetencí absolv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becně přenositelné a použitelné soubory kvalit osobnosti pro plnohodnotný život (nezávislý na odbornosti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born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dvíjejí se od kvalifikačních požadavků na výkon konkrétního povolání a vyjadřují způsobilost absolventa k pracovní čin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5B2-C1AF-4186-A5CA-4A8AD427F4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íčové kompetence v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personální a soci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 a sociální povědo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využívat prostředky IKT a pracovat s informac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matema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k pracovnímu uplatnění a podnikatelským aktivit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3D3-58CD-4365-86A6-DE57BE58F3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latnění absol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mezen pro jednotlivé stupně a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 RVP G není tato kategorie samostatně vymezena, hovoří se o ní v pojetí a cílech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ři zpracování ŠVP je závazné uvést také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fil absolventa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(informace o odborných a osobnostních kvalitách absolventa a pracovních činnostech, pro které bude připravov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E1B-407D-4C4D-91C7-371BB1D037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zykové vzdělávání a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čenskovědn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rodovědn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pro zdr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v I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nom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orné vzdělávání členěné podle obsahových okru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a rozdíl od RVP je vzdělávání (obory) v rámci oblastí členěny na varianty – vyšší /nižší nároky ob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139-56D0-4021-9594-A8F095A7EF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život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arozdíl vzdělávacích oblastí jsou PT pro všechny obory a stupně stej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607-B332-4C0E-9B22-B00F4D80A6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e resp. chemic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mezeno v několika variant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ěco více konkré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4BA-CFA7-4F92-9787-8A4E2AA04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35:00Z</dcterms:created>
  <dc:creator>Sendy</dc:creator>
  <dc:description/>
  <dc:language>en-US</dc:language>
  <cp:lastModifiedBy>PEDF</cp:lastModifiedBy>
  <dcterms:modified xsi:type="dcterms:W3CDTF">2006-11-22T18:36:16Z</dcterms:modified>
  <cp:revision>10</cp:revision>
  <dc:subject/>
  <dc:title>RVP SOŠ</dc:title>
</cp:coreProperties>
</file>