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C9C-2BF5-4F30-BF4E-28766D47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1B5-562E-4386-83C8-3149E02F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63F-6A0F-44B6-81CB-A96FFA7C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C15-BFD9-4E1F-9C0F-FE74DDBB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9AE7-FFBE-4EDE-BC22-8467BF7C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C11-765B-4159-9802-F536759C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F82-9F5A-4122-B113-BA3499CC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869-2DA1-47EC-814A-E13A9E07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FFC-C251-4D8A-9BA1-7E3D9975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320-A976-4BF6-BAED-4DE23011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F28-CBA6-4C2D-8C2A-808F04E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5B3-3D1B-40EC-8B26-7F37A7CF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8981-82A3-4D11-9AA0-92623517D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:/Prezentace/CHEMIE%20RVP%20G.doc" TargetMode="External"/><Relationship Id="rId2" Type="http://schemas.openxmlformats.org/officeDocument/2006/relationships/hyperlink" Target="file:///E:/Prezentace/CHEMIE%20RVP%20G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G, RVP G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B8B-A5EE-4BDC-91AF-CE105F992B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a všeobec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osmi a šestiletá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ZV (s některými úpravami) a 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čtyřletá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C76-FC20-4FCB-8C0F-6F726F4B96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íle gymnaziální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klíčovými kompetencemi na úrovni, kterou předpokládá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širokým vzdělanostním základem na úrovni, kterou popisuje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pravit žáky na další studium a profesní ž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01F-BEA9-4A1B-8794-AB5032627A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RVP G stanovuje celkem 5 K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sociální a perso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a rozdíl od RVP ZV nemá kompetenci praco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odkazy s ohledem na další profesní život jsou součástí ostatních K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4592-8C97-4F01-B147-6F51BBB289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Jazyk a jazyková komun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Matematika a její apl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příro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Umění a kultu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zdrav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(v oblasti Umění a kultura volí žák jen Hv nebo Vv, závazný je tematický okruh Umělecká tvorba a komunikac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1C6-7C6C-4A21-B0FB-B6C274BEAD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Vymezuje celkem 5 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obnostní a soc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kultur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chova k myšlení v evropských a globálních souvislo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na rozdíl od RVP ZV není zařazena Výchova demokratického obč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A14-EF4D-4F69-86D8-16D7FB7C5E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ělávací obsah vzdělávacího oboru je nastaven velmi obecně, umožňuje tak různé pojetí ve výuce che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humanitní/přírodovědné zaměření gymnázi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CHEMIE RVP G.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60F-3E93-4C34-8DD7-27998D2336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8:02:43Z</dcterms:created>
  <dc:creator>Sendy</dc:creator>
  <dc:description/>
  <dc:language>en-US</dc:language>
  <cp:lastModifiedBy>PEDF</cp:lastModifiedBy>
  <dcterms:modified xsi:type="dcterms:W3CDTF">2006-11-22T18:40:10Z</dcterms:modified>
  <cp:revision>8</cp:revision>
  <dc:subject/>
  <dc:title>RVP G, RVP GSP</dc:title>
</cp:coreProperties>
</file>