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BAC-DBEA-45C9-BE01-F865A8F1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516-8955-47DB-8BBE-FB1D790E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DC1-6190-4F7C-9003-6168CFBC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64F-CE14-44D6-94C4-4BFE148A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E56-EFFD-4FA7-B61E-AB2211E4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F0B-6449-4741-83EB-41F83184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1AD-E802-44DD-9173-E6763014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ED7-C820-4111-AE70-6FEC5B06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79D-1FA1-4642-A78F-215D5BAD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894-30C2-4650-8B39-346F40C1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AAF-2A5F-41A9-B87A-561C2C8A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509-0873-4C0F-A492-B6B751D5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9D02-787E-428A-8983-B5A4711D8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:/Prezentace/CHEMIE%20RVP%20G.doc" TargetMode="External"/><Relationship Id="rId2" Type="http://schemas.openxmlformats.org/officeDocument/2006/relationships/hyperlink" Target="file:///E:/Prezentace/CHEMIE%20RVP%20G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P G, RVP G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E97-2F5B-46A5-BFE9-755EF4F61F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P a všeobecné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Gymnázia osmi a šestiletá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P ZV (s některými úpravami) a RVP G (RVP G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Gymnázia čtyřletá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P G (RVP G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851-E58E-4643-9818-9901551693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íle gymnaziálního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avit žáky klíčovými kompetencemi na úrovni, kterou předpokládá RVP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avit žáky širokým vzdělanostním základem na úrovni, kterou popisuje RVP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pravit žáky na další studium a profesní ž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6DC-7AB2-4A44-9E07-E138BDC9BA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líčové kompe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RVP G stanovuje celkem 5 K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omunikat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sociální a person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občan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a rozdíl od RVP ZV nemá kompetenci praco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(odkazy s ohledem na další profesní život jsou součástí ostatních K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8F4-BF4D-45F6-BB52-65FB785E25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dělávací obla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Jazyk a jazyková komunik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Matematika a její aplik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příro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svět prá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Umění a kultu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zdrav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Informační a komunikační technolog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990000"/>
                </a:solidFill>
                <a:latin typeface="Arial"/>
              </a:rPr>
              <a:t>(v oblasti Umění a kultura volí žák jen Hv nebo Vv, závazný je tematický okruh Umělecká tvorba a komunikac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F5E-A511-49E6-A88E-ED12505CC7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řezová té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Vymezuje celkem 5 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obnostní a soci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kultur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chova k myšlení v evropských a globálních souvislo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(na rozdíl od RVP ZV není zařazena Výchova demokratického obč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A53-1A58-4541-85CA-748F9143F4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ělávací obsah vzdělávacího oboru je nastaven velmi obecně, umožňuje tak různé pojetí ve výuce che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humanitní/přírodovědné zaměření gymnázi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CHEMIE RVP G.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74CA-45F0-4928-A98C-D1CC3A0E57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8:02:43Z</dcterms:created>
  <dc:creator>Sendy</dc:creator>
  <dc:description/>
  <dc:language>en-US</dc:language>
  <cp:lastModifiedBy>PEDF</cp:lastModifiedBy>
  <dcterms:modified xsi:type="dcterms:W3CDTF">2006-11-22T18:40:10Z</dcterms:modified>
  <cp:revision>8</cp:revision>
  <dc:subject/>
  <dc:title>RVP G, RVP GSP</dc:title>
</cp:coreProperties>
</file>