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2FF-AC12-424E-B951-A6957D48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00F-8D32-4D78-A41A-86E63634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DE6-FD06-4F98-8A56-F53D7DB8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C75-D40F-4A0A-A95A-1BCD3D07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697-619B-464E-981F-CFCC9FD6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773-E2E7-4A99-A608-44E40053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738-836C-4335-A7AA-04CF381D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C98-5B1A-46AA-A853-9DEEB0AF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728-B858-4BF8-9BB7-60148E1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5BD-5389-4CBE-81DB-1D99B5E4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B425-4E2B-4C53-8FED-11901D3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2AC-0F9F-4DE8-B0E0-184A5222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AAAC-6459-46FF-BC28-324CBDD480A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SO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BB3-65F1-4798-833E-0D12512C4A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a odbor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ují RVP pro jednotlivé stupně a směry odborného vzdělávání (je nutno jich vytvořit mno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platí pravidla jako pro ostatní RV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tem stanovené a schválené pedagogické doku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vazné pro všechny školy poskytující střední odborné vzdělává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tvoří podle nich Š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evřené dokumenty, které budou po určitém období platnosti nebo podle nutnosti inovo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010-A21C-4E79-84BF-631BB00A06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íle středního odborné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ozná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vojovat si nástroje pochopení světa a rozvinout dovednosti k učení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racovat a jedn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učit se tvořivě zasahovat do svého životního (přírodního i společenského)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bý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rozumět vlastní osobnosti a jejímu utváření v souladu s obecně přijímanými morálními hodnot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žít společn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čit se žít s ostatními (umět spolupracovat s ostatními, a moci se tak podílet na životě společnosti, nalézt v ní své mí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B51-EFD8-4FF9-8ED4-2DB7B89A8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petence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Vymezeny jsou tyto kategorie kompetencí absolv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becně přenositelné a použitelné soubory kvalit osobnosti pro plnohodnotný život (nezávislý na odbornosti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born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dvíjejí se od kvalifikačních požadavků na výkon konkrétního povolání a vyjadřují způsobilost absolventa k pracovní čin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25B-0214-4B01-AD79-FC03F91E88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íčové kompetence v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personální a soci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 a sociální po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využívat prostředky IKT a pracovat s informac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matema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k pracovnímu uplatnění a podnikatelským aktivit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CBA-2192-4655-9BCF-36FEA2F246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latnění absol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mezen pro jednotlivé stupně a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 RVP G není tato kategorie samostatně vymezena, hovoří se o ní v pojetí a cílech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ři zpracování ŠVP je závazné uvést také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fil absolventa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(informace o odborných a osobnostních kvalitách absolventa a pracovních činnostech, pro které bude připravov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744-687C-4039-8F2C-039D658426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zykové vzdělávání a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čenskovědn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rodovědn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pro zdr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v I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nom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orné vzdělávání členěné podle obsahových okru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a rozdíl od RVP je vzdělávání (obory) v rámci oblastí členěny na varianty – vyšší /nižší nároky ob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031-CBEA-4A60-97B7-3DE8C12129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život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arozdíl vzdělávacích oblastí jsou PT pro všechny obory a stupně stej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E63-CC92-4A19-AF30-D673A07029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e resp. chemic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mezeno v několika variant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ěco více konkré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2DC-7AB4-48D1-A4F4-0CAABB8EDB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35:00Z</dcterms:created>
  <dc:creator>Sendy</dc:creator>
  <dc:description/>
  <dc:language>en-US</dc:language>
  <cp:lastModifiedBy>PEDF</cp:lastModifiedBy>
  <dcterms:modified xsi:type="dcterms:W3CDTF">2006-11-22T18:36:16Z</dcterms:modified>
  <cp:revision>10</cp:revision>
  <dc:subject/>
  <dc:title>RVP SOŠ</dc:title>
</cp:coreProperties>
</file>