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73FC-3DA7-480B-ABA0-E248F7C0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466E-C189-45CA-A85D-14398A89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D0E5-EBA7-4E51-84B6-4F2DA7EA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F79D-0407-48F6-96F4-66A09B8E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43CC-53B9-4734-9E1C-3D098EB2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D41-0727-42EB-9DC3-ED205546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A99-C836-4ADB-8A8A-642C6D99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28DB-7C64-4689-9CF4-88732DAB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A42-8ECE-4A50-A662-1D1DAB77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D8E2-EB90-4A9D-B4C8-110604B6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6349-5D7C-4F42-BD7B-C954B8B3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BD7-3E42-4949-B71A-5F443983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5197-2AA4-4DEE-B5A6-9F38A8EB2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E:/Prezentace/CHEMIE%20RVP%20G.doc" TargetMode="External"/><Relationship Id="rId2" Type="http://schemas.openxmlformats.org/officeDocument/2006/relationships/hyperlink" Target="file:///E:/Prezentace/CHEMIE%20RVP%20G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VP G, RVP G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718-DBFA-48DB-B362-DA11B62B7B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VP a všeobecné vzdělá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Gymnázia osmi a šestiletá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VP ZV (s některými úpravami) a RVP G (RVP G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Gymnázia čtyřletá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VP G (RVP G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88D-8798-4EBB-8CF1-714A8DF20F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íle gymnaziálního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avit žáky klíčovými kompetencemi na úrovni, kterou předpokládá RVP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avit žáky širokým vzdělanostním základem na úrovni, kterou popisuje RVP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pravit žáky na další studium a profesní živ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DF7D-441D-451D-9F13-8B1516AB32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líčové kompe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RVP G stanovuje celkem 5 K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řešení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omunikati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sociální a person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občan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a rozdíl od RVP ZV nemá kompetenci praco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(odkazy s ohledem na další profesní život jsou součástí ostatních K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503-3613-449E-A24D-2D36699EB2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dělávací obla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Jazyk a jazyková komunik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Matematika a její aplik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přírod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svět prá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Umění a kultu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zdraví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Informační a komunikační technolog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990000"/>
                </a:solidFill>
                <a:latin typeface="Arial"/>
              </a:rPr>
              <a:t>(v oblasti Umění a kultura volí žák jen Hv nebo Vv, závazný je tematický okruh Umělecká tvorba a komunikac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F9E0-C2BD-48C6-96AE-57087F009F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ůřezová té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Vymezuje celkem 5 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obnostní a sociál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kultur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chova k myšlení v evropských a globálních souvislos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ál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ál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(na rozdíl od RVP ZV není zařazena Výchova demokratického obča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3E56-41AB-4C64-BAB1-01BA8EEB93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ělávací obsah vzdělávacího oboru je nastaven velmi obecně, umožňuje tak různé pojetí ve výuce che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humanitní/přírodovědné zaměření gymnázi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CHEMIE RVP G.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186-3080-4025-AA4F-76F5187B22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8:02:43Z</dcterms:created>
  <dc:creator>Sendy</dc:creator>
  <dc:description/>
  <dc:language>en-US</dc:language>
  <cp:lastModifiedBy>PEDF</cp:lastModifiedBy>
  <dcterms:modified xsi:type="dcterms:W3CDTF">2006-11-22T18:40:10Z</dcterms:modified>
  <cp:revision>8</cp:revision>
  <dc:subject/>
  <dc:title>RVP G, RVP GSP</dc:title>
</cp:coreProperties>
</file>