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CE3-11C8-4AA9-AEED-48EF1CBD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5CF-C586-469B-A693-A9FE4FDD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C32-ACAE-4166-8149-F85503E3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12D-E432-46A8-8DEC-B49FF8CE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F32-59E8-4E00-9A5C-EB58E1CD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FD4-6BC5-4DE9-836F-50CCC15A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005-457B-41C8-A9CE-7F696439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AA4-51E3-4248-AA07-9F511A80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664-9A91-4AFF-AA14-5A77AF00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CBB-E769-42C9-AA3B-E3F86C95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35E-20E6-4D79-A267-4EA4504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6E7-6547-4E33-9C68-C2AE6B21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AD86-1CC9-407A-B654-E2C8F20BB4F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SO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794-2D62-45CB-B891-5D9063FE33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a odbor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ují RVP pro jednotlivé stupně a směry odborného vzdělávání (je nutno jich vytvořit mno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platí pravidla jako pro ostatní RV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tem stanovené a schválené pedagogické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vazné pro všechny školy poskytující střední odborné vzdělává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tvoří podle nich Š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evřené dokumenty, které budou po určitém období platnosti nebo podle nutnosti inovo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BD2-514F-4464-AAF0-9DF37D97F5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íle středního odborné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ozná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vojovat si nástroje pochopení světa a rozvinout dovednosti k učení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racovat a jedn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učit se tvořivě zasahovat do svého životního (přírodního i společenského)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bý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rozumět vlastní osobnosti a jejímu utváření v souladu s obecně přijímanými morálními hodnot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žít společn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čit se žít s ostatními (umět spolupracovat s ostatními, a moci se tak podílet na životě společnosti, nalézt v ní své mí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CE6-F73E-4C7A-8D49-B8793A875F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petence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Vymezeny jsou tyto kategorie kompetencí absolv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becně přenositelné a použitelné soubory kvalit osobnosti pro plnohodnotný život (nezávislý na odbornosti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born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dvíjejí se od kvalifikačních požadavků na výkon konkrétního povolání a vyjadřují způsobilost absolventa k pracovní čin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5A6-E08B-4150-99AC-39B1A8E4BE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íčové kompetence v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personální a soci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 a sociální po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využívat prostředky IKT a pracovat s informac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matema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k pracovnímu uplatnění a podnikatelským aktivit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9FF-0904-4F75-9477-38C41E8706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latnění absol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mezen pro jednotlivé stupně a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 RVP G není tato kategorie samostatně vymezena, hovoří se o ní v pojetí a cílech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ři zpracování ŠVP je závazné uvést také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fil absolventa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(informace o odborných a osobnostních kvalitách absolventa a pracovních činnostech, pro které bude připravov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C5B-2E3E-47E6-A022-D72D9030B9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zykové vzdělávání a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čenskovědn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rodovědn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pro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v I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nom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orné vzdělávání členěné podle obsahových okru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a rozdíl od RVP je vzdělávání (obory) v rámci oblastí členěny na varianty – vyšší /nižší nároky ob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B41-3A3B-492B-BD5D-38F7D4B0C5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život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arozdíl vzdělávacích oblastí jsou PT pro všechny obory a stupně stej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8A2-623F-4973-B1F5-B86A2C1901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e resp. chemic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mezeno v několika varian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ěco více konkré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0BA-05E6-4856-8AA1-FEC83E0A9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35:00Z</dcterms:created>
  <dc:creator>Sendy</dc:creator>
  <dc:description/>
  <dc:language>en-US</dc:language>
  <cp:lastModifiedBy>PEDF</cp:lastModifiedBy>
  <dcterms:modified xsi:type="dcterms:W3CDTF">2006-11-22T18:36:16Z</dcterms:modified>
  <cp:revision>10</cp:revision>
  <dc:subject/>
  <dc:title>RVP SOŠ</dc:title>
</cp:coreProperties>
</file>